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2E2-0D6C-4884-84C1-24E964ED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DCF-1F37-4F2F-B16C-1C2AE288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61AB0-3E6B-41D1-ACEC-D4746CB1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CCD46-49ED-4D6F-A898-BFE9FBA4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B6327-9CC9-4C4D-AA2F-C34F9FAC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A57E0-A038-452A-9EB7-37255AD6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293C7-6952-4C53-AD30-134F5E6C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A99B8-1550-4B86-B318-8BC336BB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DE18C-34EE-4DD4-8592-4CBE5CD3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C2075-B2D1-487F-BFC2-218FC454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E495E-4279-4E7B-A314-43FA722E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059F6-ED1C-4B62-BAE2-9180C45D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7E0-4070-4611-AE9E-3DCC52CA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5BA5B-A006-41D7-87E2-59A80987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DF958-80FF-41B6-A554-DFC93379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02FBA-1BF6-4EB1-924E-79A4EEEC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6F109-20BA-46D7-8E0E-E8DF6FE9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67EED-5F4A-44B9-93C1-D8EB56BC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E769A-5EF6-4A67-B923-180D25E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F78DD-58A3-4B15-B32D-E4BCB816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9AF6B-1099-431A-ACC7-EC664114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6628E-36E0-4D27-837B-859818E7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A7D71-85B2-487B-9154-E9148EA6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8EE-BA69-4030-A37F-96F976C4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48C7C-3AB2-437A-88EB-E69DE000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F47E2-CA93-4862-95FA-26D4ED39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16359-16D8-4694-8CFD-8C77D0E6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F0EE7-8C1D-4531-A2BB-F862EF9C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1856A-E0F3-4C69-8F2E-591FD18C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B750C-3EDC-40CD-9191-05135388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5A3BA-3606-4D8A-ABB6-5D86CF57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5F1DA-DA2F-4E65-8651-503B77F4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835AD-B537-468E-BA9D-24D3195F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61BB6-8160-44A1-AC2E-1AB52D5B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1042-D75D-4F77-9280-2D0A67E8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D920B-BB7F-44BC-B22E-BC8AC538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72047-C45C-4310-84C4-6E250B18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6104B-D303-498E-9997-000CBEF1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1E871-8A6E-449F-8948-FEEF410D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AD73F-97F7-4F36-95BD-56BD15F2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891AA-3CE3-4F4D-A838-56FFF955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75718-518C-4A3D-99EC-02EC41E8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EDB14-93F9-45C4-A569-64728E9C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B9BEF-7CAD-446E-BD9A-5D8FB946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673BC-9ED5-40EE-98AE-11706301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E4CC-C8B6-463E-A499-AC63C481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FD2BF-15BD-48EC-BC74-E8196F4D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3DA48-C346-4B6D-BFC8-8554CC79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21791-6B88-451E-A701-7EBC53C2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D199A-4A23-478D-833E-D2828FA2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563CC-E011-4818-98BC-CE84C57F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F1562-4AF4-4B36-9480-189571B7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B0BDF-7644-4E9E-BCC4-37BF5DF1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DCEE8-BA80-454C-A2E1-0FB6694B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79FE5-7E3C-434B-B297-B8797DA4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EC196-D476-407B-8F28-E20422CF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F69A-B95C-4F9E-A8B6-92E383C5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E8E11-4EB4-44E7-BC98-FB98A909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F6871-99A6-4BE7-B57B-62FE219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1AEA8-D36B-405D-B5B0-0F85F65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45337-40AE-4B67-88EE-C18BF1E9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15C1A-FF6D-424B-A45F-DFFA89AE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F52F7-4969-42FD-B684-84325268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DBA4E-9508-4A17-93B6-B4D5AD51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C17F4C-F7E1-4F6B-9304-C19C8A66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45C0A-9988-4C99-9658-93B9AF20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FF2C4-1E05-49DC-AAB7-373C53B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92C-F58C-4C17-9305-FB2E2E43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62A08-E9BB-4BA0-BE47-5F2FA8A7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4C7FB-6246-4A3A-8F1B-CF514977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CF993-EB75-4B96-8D8A-32AE409D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CD720-CC9F-4460-A134-E9983A0A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6E66C-08D2-40AC-A5E6-81E31CFC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6C3EE-4334-42C6-9C32-D8942674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7BCAB-4EE1-4DB2-A349-E5EA4B69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E938E-DC39-48CA-B524-D53905C0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03B48-A2AB-4A17-8CC5-05100459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06B8D-DDF8-4D80-993A-B62260FB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2711-4332-4C00-AB0F-7E34F8CB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D7BD8-7BFF-488F-AF94-1BF55771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7AB107-0C5E-4D86-8926-B6D523FD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4A03B-7117-4A4A-8ECA-6C204AE0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273AC-755A-46EE-9F03-EDE9B866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70E63-22EA-4BE9-BC24-90A6117B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4E009-205A-4BFC-BCBE-BDEA0E5F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89A6F-A333-4DE4-902D-23AD0F6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363C0-9629-444E-89E3-35A3E38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D8863-0F53-4E1C-8DDE-CCA13DD4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943221-D3FB-47D5-B381-1A217A2B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DD7C-22CD-4540-BEC5-A433CB14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7B42A-2270-4CC6-AF3C-6A5346C4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07826-19E6-4F92-BAC7-59DDFB2B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5BA2D-6AF3-4017-A0EA-2FCD6A13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18259-3094-4211-A012-1FC206C9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683D6-7804-4FBA-8D52-084E6253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5F205-6406-427A-AD15-042C2DB3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EE80F1-A60A-402A-8410-31D205CB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8E465-F29B-49DB-B571-1DEB398D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5D20E1-A6C0-45EF-8536-F59871DD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77CA1-F293-440A-998A-86CD34B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49EA-1AA8-4B08-80B0-0EA30FB9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31A706-BCB9-4322-97CD-183F61C7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3A557-DFEC-4EA4-BC76-E57AAE87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0AA02-4A32-4AA2-9E6D-133CCCE7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3927A-EAC8-4681-834A-2A167C9F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0CB0E-3305-44F5-A3DF-AB14CF6D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51472-CDF7-4ADC-9D87-22FCB96A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18E55-1F64-4694-AEF1-624CE678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CDA813-E139-4C1E-82BB-1968A4A7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EE301-00B2-4E75-ABA8-679D0E43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53B83-1D29-48EB-8148-EAD6793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D18-6935-4364-8ECA-C3203FD3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D0CC-10CA-40D8-A66E-078295D9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5F1E1-7B01-4528-8B1B-7B74E311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0387F9-D963-45C9-B578-82E4206B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8CAFA-0BFC-459D-A6BF-A9AEE353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F3F006-D307-47BB-88CB-36C42355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F8F59-BC5A-421A-A69E-53084FDE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E3932-2EED-4C56-9E7C-7274179D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68CE04-87C0-4826-B2EE-0E4E6255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5DBED-2C84-4ED3-8A5D-5496A0C7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568EA-3CF9-4153-8741-80F3AA93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E8C37B-999C-4CFD-BCEA-78DF5E0E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7CCA-2CBA-4D8B-B869-4234116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DEBDB-0CAD-4F84-ACFF-BDB54F9B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9E40D-91BB-4365-A2C8-FD4FEF74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1F1FF3-E96A-4144-9516-2A42FF41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6530A-C9B8-4E53-91CF-FADA9D26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A0C318-6082-4E32-9C48-EDA024CD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6047CF-7F91-4733-BC64-D3C32FCB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C572B-A31E-4E7E-8607-13F74D82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B1647-7373-4929-BD54-21C27C1D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352A3-8FD2-492B-9834-44BAEC67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834FD1-B6A9-4B95-B339-64ADA2A9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7E26-A726-4FC8-8F04-92936B87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16BE25-DAFC-4D25-A9D5-9F480DBB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34F0C-DC91-46AC-8D12-161C0C4C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9DD464-18EB-4A47-8424-D2963983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212A01-F428-4E89-8FCC-269241B4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6246F6-815A-4514-9A63-801BE6FC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CE5E9-04BE-4E46-BF48-CF82A123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CAD21-48D1-4BD2-B426-3909CCB1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86DF1-8AA8-4B83-9D34-D910C576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5E2BD-5D60-42BE-98F9-1BB047ED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0B22F-E45A-46B0-AA72-111CEECF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4E33-A010-4EF0-B0B6-852B13C0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1C9D0-0A42-4CC0-A7E9-673EB11A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D8D1AE-3EB0-40E3-8099-D47D9319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DF67E5-7356-43D1-8196-C8C04BC7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B3AC48-351C-42CD-AA8C-390CA236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A73E68-4815-4063-9120-95523D61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C96DA1-ED51-4B95-AF81-DFEE937E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7993E-2B9A-4757-A0C4-7A4EC3B1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AD9FB-6898-4CD3-88CC-80E2B45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ED425-C16E-48B0-B248-2089052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54FFB2-C563-42AF-AA89-F945F382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1BBF-98A6-41C1-A83E-C5B4A852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01BAF-C039-4B77-91E7-5B056B49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724A4E-D854-49A8-84B9-4AD00C77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0E6200-5C06-49C8-B2F6-D1066309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59C104-29F3-43C8-AD64-7DB545F6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577BB-141E-4442-9544-C02287BC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08D8C-6E46-4308-898A-66192DA0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BB4A6-BB27-408D-A42E-AF0E4BE8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CD1F61-9E17-4851-A501-DBFF16BB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58E84E-D796-4F92-AED0-3509E52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84A5A7-6359-43F3-BEE1-5E184A24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8C9E8-0CC7-422C-9D10-BD4A439A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0EE453-3333-4F33-802D-E640E209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6BD489-45B0-4DD2-BE75-4116234E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58B9D-B6C7-434D-8E8C-D21618B9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DB4F34-E877-4E03-8431-E1C3071A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07EC83-BF30-42B4-AA8B-33D3CD14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50901A-BB57-453B-8773-427D9C0B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76C449-FD21-46F9-B7BC-46AF4905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F20B47-36CB-45D1-BEC5-E04C979D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3402CA-7B61-4FDE-903F-F3D1EE17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373869-87D3-4800-93A9-C962C97D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AA16-B3A4-4E90-B1F3-C5769F9A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800B3B-3A7A-4017-976F-7C30581B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040F6F-BC76-44DA-ACB1-E438A4A2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039307-6DB0-4D94-A7C3-9B214BB0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F72A6E-6686-4273-80B5-43BFF0C0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364697-397C-4C46-8B8D-8A92C7B6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3E19CA-6A2C-49D3-9813-2E1B6C24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EEFD1E-8084-46AB-8296-4BFDED9F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225B21-4DE9-44E8-B39F-8FE45CC2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4C2910-E381-4714-9428-68AE6190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6A3233-4E7E-4ECD-8357-BADB0B5F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2B42-86A5-464D-A5BF-94DA25B0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E1BE25-6F4B-4A16-938C-F3189FCC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C8F162-3D5C-4F13-90F9-08979BEC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413588-CEEF-4D39-A090-C20BD887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316632-4085-4849-9CB6-63CD4E2E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A5AB9F-A605-4500-9D25-A468CE5C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D9E5B9-3CA7-4137-BC46-26634A29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B67079-21D7-47AC-95D1-781BCE76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167756-023B-4CDB-BBD3-AE36B31B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A2900E-FDE3-4321-853F-E171E9EE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8D58E0-6415-4B10-9090-ACF969A3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2217-F84B-47C4-A0DB-B0B45649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6A952D-4E13-40FF-B9FE-D932D0EA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41ECC2-8A69-4687-B549-4D7FFDE4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1087E2-6625-4E0C-824B-F0DC74A3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840A65-E4FC-4645-B87F-A641D3DD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B11275-C6F3-419B-8CB4-45D3F561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C3D4DA-D7E3-4483-A1A6-C9DDC68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D5A362-77A6-4323-80DB-0887E9A0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68F100-2D6B-4170-8D13-475AB236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2FB2AA-7754-4841-A2E3-5ED243EB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3709B9-6F99-44A2-AC3F-0A1E725A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AD2D-1246-488C-A7D0-FDE631CF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8A3F93-4EA9-423D-BD35-3EB2877D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53D661-C9D8-48BF-8CD9-94E804C3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B9A35A-4D3B-45EB-AE2F-F51373A7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D94944-2E55-4D52-AD67-EB319C60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58EB42-38BE-4A3F-9758-688927B5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04F83F-754D-4962-BFB0-8091DDCD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C97130-FDAF-41C5-8BD3-EC648C17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E8B3E2-143E-472B-93EB-2EFA808D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617062-71A2-4F87-8613-C9155CAE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36C7D4-1EED-4B8D-8C90-7590C0B2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BB9-5598-40BC-B76F-9973CF22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09C1-3E48-4B86-8056-309E3A5F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6CBECF-F58C-4D04-9E7F-BA550458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02F034-D652-4445-A55C-566FED7D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37DE17-441C-472B-90B9-E94E2F7E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B5D7A3-F5C8-440F-985D-D5CBED57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A06A74-6DD2-46F7-94C5-65973130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3E4C98-F8C3-468F-BBBA-18AAC218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6C3D12-E289-4661-A968-7E698940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C9F80A-BDDF-45F1-AE1D-86DA49A8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E9AD6D-CADF-4925-B998-A2C62FF2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62212B-2CA4-4BD2-9227-B9BBC703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C990-EAC2-454F-B928-86774320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5FEAFA-53CD-4FF4-8250-61C7E213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EFD366-230B-41F9-8DB9-798B8219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16844E-AC07-4B07-A8DE-1220A6A9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729E04-1B6A-4C92-8CE7-00B81606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23EB59-1D5E-4C7F-9AB2-B2C28376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8CFE92-1999-4D7A-925C-838100BC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FE4A00-7F3E-4523-8A44-B2F0C8E8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71398A-1ADF-459D-8C9D-C1A2B7AB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FABB25-8363-4D3B-8DED-731C7C27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C01B12-CDC6-4058-BBD4-6C952D2F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2884-5D29-49AA-8C6C-B9AE765D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4CDF9A-419D-4D33-B34F-D9CFB46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58C622-1284-4CE9-AAA7-503A584E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07AA27-74D2-4FA9-88A0-143517E8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0B667F-5022-4D99-9DD9-FDAC9166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7DEC89-824F-4F77-9C25-E94E1754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AF731B-1D11-4D75-826D-7AC49E1A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FBA842-94CE-4780-8DF9-0E14FA22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732396-1A2B-4E68-B152-D933396F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2BDC3E-161B-406F-92A6-5CDBEC48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EA9142-8229-49AB-BC1A-6A8B3BBC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B2B3-E617-46FC-8435-679EE678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56A077-0177-4BAE-A240-B05657CA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CFA30E-1476-477A-B0FC-66E6AD40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10A01E-F4A9-40A8-A66E-C405B7E1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6DB93D-CFA9-44EE-BFC4-80242071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742749-C9D0-42CF-99A2-49AA9BA2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1C93CB-0743-4F80-A9B5-5EEEB219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5EB091-EF85-49DC-B00D-27CC06AB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E319B3-BAC7-404E-82F7-AE840B79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1AE684-C422-4EEE-9F7B-0BE83593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9091A5-C469-459C-8257-040CE70D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3CB68-A800-497A-B44A-44B9DE72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B6D317-08B5-430D-AE8E-CD8BF9FF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0E1342-665D-4039-A670-E2F7C9A9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E05114-3D80-42CD-ADDF-1F3D0FC5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441FC0-B56D-4CB6-A953-2650AB30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229D10-AC03-48B9-8032-9C4951A5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C37434-6A37-468A-B311-DF730EC9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ABBCB4-3ED0-4B21-B096-4B4C5BE2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B9F828-7C82-4F6D-9ED8-F66F9A0E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23C117-E66F-448A-BF17-20EF5A74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B45148-EE97-4AE9-98A5-8DE90BF9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D4D1-DB9D-47D2-A249-C7D08C28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B0958A-8E16-42F0-841D-5551E37B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39931E-0C62-4E3B-8B42-77E9D55F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B83537-19F3-4ED5-A1F2-C8667C10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5CA017-80ED-49E0-9FF5-71CD1C67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709358-02F4-4D85-AA41-4AE8AF18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AF1929-D20D-4ED6-8A7E-B8DCFE27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6C6432-7B4A-4FB5-A2BB-01FDCA3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BD897C-B543-470F-8D01-3D43E08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A36E8E-CBC4-460A-802A-61BC0B97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4C4095-5512-4E31-9F2E-4F4BA3DB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91EA-8D0D-40E4-9D99-D7FBD88D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06AEC8-CC39-4ACE-BA9F-52D66C85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23DEA1-FF19-4E9D-AFAE-32436493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64B1FD-320F-4BB8-95FA-9A660E11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C98B29-47DA-47AE-B1D4-9D5B3121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9473F9-9E5E-4F08-9EC1-AA436BF8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5946D4-34DE-422D-8314-7CAF0B43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EE58F3-E04D-4575-BA4A-53E08FA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CEF0EC-80EA-44C3-BF28-BBE8088E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AC196C-0B95-462F-9882-47A9E653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09EBE7-2774-43C8-98C5-9A58AD36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25CA-52B9-414A-A5EB-83C0F784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95DD60-10B8-4956-8B54-A135DEDA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6E569F-89B9-42FD-BB62-F26AC1F9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70D16D-553A-4910-B6EB-1B497400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FC29BB-1DE4-4CD2-8E76-B4DBEC9F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53D945-2DE5-4922-BD6E-00299B78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C3CEF7-B754-44CC-AC2A-B71F0D6D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C83661-BCE2-46F2-B745-846D1567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672B73-8C4E-4182-9F0A-2A11D5B8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25ED8F-848D-4EC3-A381-206B4D97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3FFDA6-7B67-4490-8814-5B9DB04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C1287-5EAD-46B4-AA0C-B78D12B7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72DAF9-D7D1-4DE1-AAF7-1438CB2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3F486E-D247-464F-8D07-FFEE0214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9A3601-68BB-444E-A53D-23779981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620FF1-3013-43E6-87D9-A35EB5DF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91D866-1456-4898-BD58-2B3BE41E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87803D-6805-4479-A65D-5ED94626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54C86D-0CD6-4F0E-B315-CB2DEB2A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C1086C-03ED-472E-84AF-7561CA71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0796AF-37DC-418A-AD6A-FD296C24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10B8A0-092B-4915-9FE3-4FD0A197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48631-57C9-42EF-A450-418449D5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1BE068-8D3A-443B-A9AA-D36BFEB6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964986-F5D6-4F20-8E9A-69209798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B01816-7675-405B-87A9-70C5DB6A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A8F9E4-91D0-456F-A79E-D22883E0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16D14E-B920-492D-BC7D-2274D757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0983D6-03E8-41F2-AA10-53457692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D466E3-87AB-4D2A-B4C2-F057B2D2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25FBD4-CA48-4CF4-8A82-09A46B3D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2F4E99-123E-4E26-AC07-5E9419D0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9EBDF3-8B05-4B18-9E88-8C8A0B17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5CC-4007-49D8-B75D-FB6BCA9D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A9AE1-44E4-4FF7-AE3C-BCDDEEFA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654219-4D09-48A6-82C2-17AAF574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B02693-6347-412B-B50B-D439609B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00F70B-6CB7-4DDC-8137-BF3E9DC7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449505-2B4C-41D8-9B1E-79A67F16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EE8BD7-7827-4078-BB42-7896255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114E04-335F-4CC2-9F67-05E52B9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617F56-0F17-4A19-A416-367DE316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467102-55A9-481E-84E9-B83DA0EB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0E5C04-D281-43D5-8C96-4903A3F9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A4C43-D88E-4F68-961A-EE94F248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CE5BC-3D4D-47EE-BFE7-9CEA6C5D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2CE7D-7911-49FA-BDBC-005930DD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24C0-9BB5-4557-8B52-C047EFB9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D71D7-5DD6-4760-BC75-B50777A5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6A8A-4F20-48AA-AB7D-EDCF2709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A7B9A-128D-4904-A2B6-1824182A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61FC5-6A76-4BBD-AF04-F6F7C242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22C99-C8C8-4838-934B-A563D28A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510-5AFF-4EBB-8868-D529B70F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ACDEA-68D9-4601-B59B-99E6AA0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F2E4F-BF56-4BF1-A284-AA0173EB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A9E2E-D4D6-4CAB-8750-6B8BB597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AE144-5E3C-4AB6-A789-AA2FC971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F76C0-A08D-4543-998A-5E0BA53D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B57C9-1345-4BC7-BF05-6654473D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DAC5-36E4-40AA-84F9-5E99D129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D20AB-A609-467C-BDC0-D1126BF7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EC222-A46B-4A01-A0A6-DBAEF710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D3569-DA00-4853-81DD-71821CF4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B0B-FFBC-4778-8224-8FDC75FC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24FB-7EE1-46AB-89F3-64FCE2A4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6A284-F24B-42DD-9E59-A1F0CBDA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BC233-68F9-484A-ADE3-44B160AD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08CB6-3075-4510-A97C-75DA2D70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4A50F-0A7B-4855-BCB4-D417A439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1F8BC-8D92-4D21-AA10-C4200689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0E343-3047-4C9C-9576-9F60F764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759E4-84B1-4FA0-8057-40143177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0B32A-3638-4FBF-BC6B-64BF1090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57EAC-2863-4504-AF60-F320ABE8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ACF-63E6-4768-A166-12EC182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E54A-431E-4431-A66C-70D81074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812B6-6A5C-46F5-9495-8D6BE873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DDEAF-687F-4A10-901E-E550A2A8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B8506-05F2-4E14-A67E-89BA5148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14862-8603-41A3-B634-0C2DEDFF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794CC-ADB4-4A31-9B5D-38EFF219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F50DB-B119-4280-A99A-028DFC0A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BC5FD-D323-481B-A1B0-0E7B016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867C5-0B1C-4E8D-810D-8C0959C0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A868E-14B8-4FBA-8859-B6C3005D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CB0-FF52-468E-8615-89DCDA84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69C15-E202-4624-97C8-8869C09A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AD612-15D1-4DBE-BB79-43F7A9B2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46C16-3F30-4C32-8C2B-68C86649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E1A24-3A22-482C-A39B-40D6517B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4758A-E686-4AD9-A76A-8DDDA536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9F77C-419E-4750-BD63-8B6C058E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34B5C-7496-4598-BA2F-1B329E5C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B555D-D39D-4009-969C-CBE78960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D2031-1DAB-4B28-98F9-DC0543D3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29386-4BC4-40D9-9963-1957B6F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ABD-62B2-4D48-A66B-DC59C944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B97A6-EB28-4FCC-BB98-F0744BD0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079CE-700B-4BEF-84F4-15C50AA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6D8FC-3C1F-4F06-947B-4014312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33496-2DD2-428D-9237-A86E477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A65AB-B3E7-4184-9811-96FE943E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743A8-E1DE-4C9E-B257-6C5FDD4A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4BBFD-24EA-459B-8810-0A0FFE4E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C5390-2A51-47E8-85F4-BE3A4F6D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C4E59-54C4-466C-884A-9F7139F1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6CCEC-3EFD-4905-8225-E4FFF95C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9DDE-B021-4053-9A18-04931FE39E8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6A63-0833-4864-A33B-3AD714F3F6E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057B-4F61-4B16-9843-E2808F02A6D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CD23-258C-48C3-9CB7-1B27A93BC2B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4045-6EC1-4A8D-8187-3B7AC740638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1D36-260E-4E2C-AFAA-54C39A5F7F5E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1F62-B559-445F-B9F1-618E9F08B32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D499-F9D3-46F3-9676-0ABBDE9E4A1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0E94-62FF-464B-A9AC-715650F4B75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EACC-1C86-40C5-A05F-C0D99E05043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BE50-E273-4169-BD0D-59DF22660DC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E75E-0F52-4289-A4EA-2C18C1702E1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C2D4-5E0F-42FD-A52F-687D4D7EE69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DD85-5375-4DB3-9F0D-5835143F692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475A-0E71-4501-BE2B-745043847F0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41B4-A3E8-49B4-8094-C2130A0ADDB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1C01-EFA0-444F-869C-3960E89A989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1844-A42A-463F-9627-DA1C2370C9D2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6101-8021-447C-A866-24E9C4DCE27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81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EAEF-5187-418A-8E58-A6FF8054CAA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84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C018-5BF6-4675-81A1-AC048BB2192D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4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8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38B9-57C4-4B59-9816-42EC663D465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4C82-B3D0-4DB8-9740-4B39DF48A54E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045A-56DA-44FA-9A43-0ACD6200252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7DDF-6BA5-417E-A4C7-3D644D6A608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AB58-02B7-48B3-B64A-FBADD9203D8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1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2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9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9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9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12C0-E03D-474F-B48D-8BB1C341768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8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9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0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0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0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B69A-1607-4B46-B7B7-23162105B94E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39FB-8F13-4305-8CCA-6378F173BA7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996F-6046-42C9-8177-D6602ADE84E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38C4-C970-469E-B35C-4A1D376BF66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587C-50E2-411E-B376-8B314FE2A40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268-FB03-4F46-BE5D-84D503597AF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7CF2-6F19-4C93-89B3-C984AB4575A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ograme.ise.ro/actuale.aspx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manuale.edu.ro/" TargetMode="External"/><Relationship Id="rId2" Type="http://schemas.openxmlformats.org/officeDocument/2006/relationships/hyperlink" Target="https://www.manuale.edu.ro/" TargetMode="External"/><Relationship Id="rId3" Type="http://schemas.openxmlformats.org/officeDocument/2006/relationships/hyperlink" Target="http://www.edu.ro/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biecte2019.edu.ro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066400" y="231840"/>
            <a:ext cx="8915400" cy="464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CONSFĂTUIREA PROFESORILOR DE 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LIMBI MODERNE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(engleză, germană modernă)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subTitle"/>
          </p:nvPr>
        </p:nvSpPr>
        <p:spPr>
          <a:xfrm>
            <a:off x="1689120" y="4776480"/>
            <a:ext cx="101044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17 SEPTEMBRIE 2018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9" name="Picture 2" descr=""/>
          <p:cNvPicPr/>
          <p:nvPr/>
        </p:nvPicPr>
        <p:blipFill>
          <a:blip r:embed="rId1"/>
          <a:stretch/>
        </p:blipFill>
        <p:spPr>
          <a:xfrm>
            <a:off x="2625840" y="522360"/>
            <a:ext cx="80787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"/>
          <p:cNvPicPr/>
          <p:nvPr/>
        </p:nvPicPr>
        <p:blipFill>
          <a:blip r:embed="rId1"/>
          <a:stretch/>
        </p:blipFill>
        <p:spPr>
          <a:xfrm>
            <a:off x="2558880" y="1606680"/>
            <a:ext cx="8178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531800" y="623520"/>
            <a:ext cx="9972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1698120" y="2042640"/>
            <a:ext cx="9806040" cy="38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rotocol de colaborare privind derularea în România a programului FLEX – </a:t>
            </a:r>
            <a:r>
              <a:rPr b="0" lang="en-GB" sz="2400" spc="-1" strike="noStrike">
                <a:solidFill>
                  <a:srgbClr val="000000"/>
                </a:solidFill>
                <a:latin typeface="Calisto MT"/>
                <a:ea typeface="Tahoma"/>
              </a:rPr>
              <a:t>Future Leaders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Exchange Program – nr. 10584/06.10.2015 (valabil până la data de 06.10.2020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Acord de colaborare încheiat între MENCS – Goethe Institut, privind promovarea limbii germane moderne și a calității predării limbii germane în învățământul preuniversitar – nr. 8713/07.03.201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1617480" y="553680"/>
            <a:ext cx="9450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OLIMPIADE ȘI CONCURSURI: REGULAMENTE, METODOLOGII SPECIFICE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-cadru de organizare şi desfăşurare a competiţiilor şcolare şi Regulamentul de organizare a activităţilor cuprinse în calendarul activităţilor educative, şcolare şi extraşcolare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– aprobată prin OM</a:t>
            </a:r>
            <a:r>
              <a:rPr b="0" lang="en-US" sz="2200" spc="-1" strike="noStrike">
                <a:solidFill>
                  <a:srgbClr val="404040"/>
                </a:solidFill>
                <a:latin typeface="Calisto MT"/>
                <a:ea typeface="Tahoma"/>
              </a:rPr>
              <a:t>EN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 nr. 4203/2018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ctualizarea Regulamentelor specifice de organizare și desfășurare a </a:t>
            </a:r>
            <a:r>
              <a:rPr b="0" i="1" lang="ro-RO" sz="2200" spc="-1" strike="noStrike">
                <a:solidFill>
                  <a:srgbClr val="404040"/>
                </a:solidFill>
                <a:latin typeface="Calisto MT"/>
              </a:rPr>
              <a:t>Olimpiadelor naționale de limbi moderne,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conform OM</a:t>
            </a: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EN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 4203/2018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sto MT"/>
                <a:ea typeface="Calibri"/>
              </a:rPr>
              <a:t>Rezultatele olimpiadelor școlare (naționale și internaționale) la disciplina LIMBI MODERNE, aferente anului școlar 2017-2018, se găsesc pe site-ul ME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00b050"/>
                </a:solidFill>
                <a:latin typeface="Calisto MT"/>
              </a:rPr>
              <a:t>Introducerea etapei naționale pentru clasele a VII-a și a VIII-a la LIMBA ENGLEZ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2588760" y="1441440"/>
            <a:ext cx="89154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REDAREA – ÎNVĂȚAREA – FORMAREA COMPETENȚELOR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Centrarea predării pe formarea competențelor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Relaționarea formării competențelor cu evaluarea acestora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Accentuarea dimensiunii conștiente a învățării,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rin proiectarea activităților de învățare care să stimuleze gândirea critică și creativă a elevilor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Crearea unor contexte de învățare care să determine exprimarea perspectivei personale și creativitatea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Elaborarea unor sarcini de lucru care să evite simpla reproducere a unor informații, a regulilor gramaticale, a canoanelor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Utilizarea elementelor de noutate (input audio – video, sarcini de lucru diversificate, atractive, atipice etc.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VALUAREA – EVALUAREA COMPETENȚELO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area și diversificarea activităților de evaluare astfel încât să stimuleze gândirea analitică, sintetică, creativ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Elaborarea itemilor/sarcinilor de evaluare pe competenț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Utilizarea unor sarcini de lucru diverse, inedite, atractive, care să stimuleze participarea elevi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alibrarea testelor de evaluare conform nivelului lingvisti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FORMAREA PROFESORILO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1952280" y="1689120"/>
            <a:ext cx="955188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Valorificarea inspecțiilor efectuate în proiectarea activităților de formar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cluderea, cu prioritate, în cursurile/sesiunile de formare a componentelor de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onținut științific și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metodic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ccentuarea dimensiunii creative a proiectării didactic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locarea unui număr mai mare de ore activităților practic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Mentorat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Proiectul CRED (</a:t>
            </a:r>
            <a:r>
              <a:rPr b="0" i="1" lang="ro-RO" sz="2400" spc="-1" strike="noStrike">
                <a:solidFill>
                  <a:srgbClr val="404040"/>
                </a:solidFill>
                <a:latin typeface="Calisto MT"/>
              </a:rPr>
              <a:t>Curriculum Relevant, Educație Deschisă pentru toți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INSPECȚIA ȘCOLAR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aborarea documentelor de proiectare didactică conform programelor în vigoar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plicarea programelor școlare de limbi moderne la gimnaziu;  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plicarea eficientă a programei școlare pentru clasele cu program intensiv/bilingv de studiu al unei limbi modern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decvarea procesului de predare – evaluare la fiecare regim de studiu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Respectarea programelor școlare în raport cu criteriile de evaluare specifice examenelor finale de absolvire/de admitere în învățământul liceal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ograma școlară – clasa a VI 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4" name=""/>
          <p:cNvSpPr txBox="1"/>
          <p:nvPr/>
        </p:nvSpPr>
        <p:spPr>
          <a:xfrm>
            <a:off x="2588760" y="1352160"/>
            <a:ext cx="8915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emente de noutate – Programa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ste structurată pe formarea – evaluarea competențelor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include procesele de construcție a competenței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indică tipuri de activități specifice formării acestora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relaționează  subcompetențele cu norma lingvistică și conținutul adecvat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face referire la modalitatea de evaluare a competenț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sugerează tipuri de activități de evaluare specifice fiecărei competențe/subcompetenț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stimulează exprimarea punctului de vedere și creativitatea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2085480" y="623520"/>
            <a:ext cx="9418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REDAREA –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Î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NV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ĂȚ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AREA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 – EVALUAREA CREATIVĂ</a:t>
            </a:r>
            <a:br>
              <a:rPr sz="3200"/>
            </a:b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 CREATIVE TEACHER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6" name=""/>
          <p:cNvSpPr txBox="1"/>
          <p:nvPr/>
        </p:nvSpPr>
        <p:spPr>
          <a:xfrm>
            <a:off x="1261800" y="2133360"/>
            <a:ext cx="5640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Think outside the box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xplore all possibiliti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Foster creativ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multiple viewpoi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sk open questio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void demonstrating a right w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Highlight divers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creative problem solv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risks and allow mistak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Rethink literatu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ssess creativel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7191000" y="2125440"/>
            <a:ext cx="4630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Method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Brainstorm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Mind Maps (words, symbols, images etc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Get hypothetical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Build a storyboard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Flip it and reverse it (multiple viewpoints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Real world problem solv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Tell stories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Create your own text (re-writing a fragment/story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1531800" y="623880"/>
            <a:ext cx="99727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C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ADRUL NORMATIV PRIVIND ORGANIZAREA 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PROCESULUI DE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, ÎN ANUL ȘCOLAR 201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-201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9: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355" name="Content Placeholder 2" descr=""/>
          <p:cNvPicPr/>
          <p:nvPr/>
        </p:nvPicPr>
        <p:blipFill>
          <a:blip r:embed="rId1"/>
          <a:stretch/>
        </p:blipFill>
        <p:spPr>
          <a:xfrm>
            <a:off x="1139760" y="2255760"/>
            <a:ext cx="94312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2644920" y="1503360"/>
            <a:ext cx="8804160" cy="39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</a:rPr>
              <a:t>SPO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ȘI OAMENI BUNI ALĂTURI, ÎN ANUL ȘCOLA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2018 – 2019!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2588760" y="5181120"/>
            <a:ext cx="89154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o-RO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S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ahoma"/>
              </a:rPr>
              <a:t>TRUCTURA ANULUI ŞCOLAR 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8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-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9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1061640" y="2133360"/>
            <a:ext cx="104425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Structura anului 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ş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colar 2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8-2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9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a fost aprobată prin O</a:t>
            </a:r>
            <a:r>
              <a:rPr b="0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MEN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nr. 3.220/19.02.2018</a:t>
            </a:r>
            <a:r>
              <a:rPr b="0" lang="ro-RO" sz="1900" spc="-1" strike="noStrike">
                <a:solidFill>
                  <a:srgbClr val="ff0000"/>
                </a:solidFill>
                <a:latin typeface="Calisto MT"/>
                <a:ea typeface="Tahoma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Cursurile anului şcolar 2018-2019 încep luni, 10 septembrie și însumează 168 de zile lucrătoare (34 de săptămâni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tructura anului școlar cuprinde semestrul I (10 septembrie 2018 - 1 februarie 2019) şi semestrul al II-lea (11 februarie 2019 - 14 iunie 2019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Vacanţele elevilor din toate ciclurile de învățământ sunt programate astfel: vacanţa de iarnă (22 decembrie 2018 - 13 ianuarie 2019), vacanţă intersemestrială (2 - 10 februarie 2019), vacanţa de primăvară (20 aprilie - 5 mai 2019) şi vacanţa de vară (15 iunie - 15 septembrie 2019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uplimentar, clasele din învăţământul primar şi grupele din învăţământul preşcolar beneficiază de vacanţă în săptămâna 27 octombrie - 4 noiembrie 2018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Pentru clasele terminale din învăţământul liceal, anul şcolar se încheie în data de 31 mai 2019, iar pentru clasa a VIII-a, în data de 7 iunie 2019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Title 1" descr=""/>
          <p:cNvPicPr/>
          <p:nvPr/>
        </p:nvPicPr>
        <p:blipFill>
          <a:blip r:embed="rId1"/>
          <a:stretch/>
        </p:blipFill>
        <p:spPr>
          <a:xfrm>
            <a:off x="2030400" y="457200"/>
            <a:ext cx="9588600" cy="1378080"/>
          </a:xfrm>
          <a:prstGeom prst="rect">
            <a:avLst/>
          </a:prstGeom>
          <a:ln w="0">
            <a:noFill/>
          </a:ln>
        </p:spPr>
      </p:pic>
      <p:sp>
        <p:nvSpPr>
          <p:cNvPr id="2359" name=""/>
          <p:cNvSpPr txBox="1"/>
          <p:nvPr/>
        </p:nvSpPr>
        <p:spPr>
          <a:xfrm>
            <a:off x="1496520" y="2114640"/>
            <a:ext cx="1000764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OMENCS nr. 3590/5.04.2016 - Plan-cadru de învățământ pentru gimnaziu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MEN nr. 4221/01.08.2018 privind modificarea și completarea Ordinului ministrului educaţiei naţionale nr. 3590/2016, privind aprobarea planurilor-cadru de învăţământ pentru învăţământul gimnazial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lanurile - cadru  și programele școlare valabile în  anul şcolar 2018-2019  pot fi accesate la adresa:  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ea typeface="Tahoma"/>
                <a:hlinkClick r:id="rId2"/>
              </a:rPr>
              <a:t>http://programe.ise.ro/actuale.aspx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455480" y="623880"/>
            <a:ext cx="1004868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imes New Roman"/>
              </a:rPr>
              <a:t>PROGRAMELE ŞCOLARE PENTRU ÎNVĂȚĂMÂNTUL BILINGV VALABILE ÎN ANUL ŞCOLAR 2018 – 2019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imes New Roman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1700280" y="2133360"/>
            <a:ext cx="9804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ul bilingv – limba engleză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rdinul ministrului educației naționale nr. 4775/2014 –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Elemente de cultură și civilizație engleză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– Clasele a XI-a și a XII-a cu program de studiu bilingv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rdinul ministrului educației, cercetării și tineretului nr. 5240/2008 – Istoria Marii Britanii și a Statelor Unite ale Americii – Clasa a X-a  cu program de studiu bilingv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663560" y="623880"/>
            <a:ext cx="984096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  <a:ea typeface="Times New Roman"/>
              </a:rPr>
              <a:t>Ordine de ministru </a:t>
            </a:r>
            <a:r>
              <a:rPr b="0" lang="ro-RO" sz="2400" spc="-1" strike="noStrike">
                <a:solidFill>
                  <a:srgbClr val="262626"/>
                </a:solidFill>
                <a:latin typeface="Calisto MT"/>
                <a:ea typeface="Times New Roman"/>
              </a:rPr>
              <a:t>valabile în anul şcolar 2018 – 2019 referitoare la limbile moderne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1463400" y="2133360"/>
            <a:ext cx="100407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Limba germană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  <a:ea typeface="Tahoma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Ordin nr. 4130/ 17.07.2018 </a:t>
            </a:r>
            <a:r>
              <a:rPr b="0" i="1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privind primirea unor profesori germani în învățământul preuniversitar din România, în anul școlar 2018-2019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"/>
          <p:cNvSpPr txBox="1"/>
          <p:nvPr/>
        </p:nvSpPr>
        <p:spPr>
          <a:xfrm>
            <a:off x="2090880" y="831600"/>
            <a:ext cx="9378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OMEN nr. 3027/08.01.2018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entru modificarea și completarea Anexei - Regulament-cadru de organizare și funcționare a unităților de învățământ preuniversitar la Ordinul ministrului educației naționale și cercetării științifice nr. 5079/2016 privind aprobarea Regulamentului-cadru de organizare și funcționare a unităților de învățământ preuniversitar (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odificarea și completarea </a:t>
            </a:r>
            <a:r>
              <a:rPr b="1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rt. 66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– privind atribuțiile catedrelor/comisiilor metodice în elaborarea ofertei CDȘ și selectarea auxiliarelor didactice și a mijloacelor de învățământ 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Regulamentul – cadru de organizare şi funcționare a claselor cu  predare a unei limbi moderne în regim intensiv sau bilingv în unitățile de învățământ preuniversitar – aprobat prin OMEN nr. 4797/2017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968480" y="449280"/>
            <a:ext cx="88660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ERTA NAŢIONALĂ PENTRU MANU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ȘCOL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Manuale școlare digital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-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Manuale școlare -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1"/>
              </a:rPr>
              <a:t>https://www.manuale.edu.ro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2"/>
              </a:rPr>
              <a:t>/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Auxiliare didactic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– OMEN nr. 3022/2018 privind aprobarea auxiliarelor didactice din învățământul preuniversitar (anexă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Mijloace de învățământ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omologate în perioada mai-iulie 2018, în vederea utilizării lor în învățământul preuniversitar (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3"/>
              </a:rPr>
              <a:t>www.edu.ro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 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919160" y="398520"/>
            <a:ext cx="888696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METODOLOGII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ALE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EXAMEN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LOR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 NA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ION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9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1162080" y="1534680"/>
            <a:ext cx="10663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Recunoașterea și echivalarea rezultatelor obținute la examene cu recunoaștere internațională –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aprobată prin OM nr. 5905/2016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evaluare națională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13/29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Admiterea în învățământul liceal și profesional de stat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– 4829/30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o-RO" sz="1800" spc="-1" strike="noStrike">
                <a:solidFill>
                  <a:srgbClr val="ff0000"/>
                </a:solidFill>
                <a:latin typeface="Century Gothic"/>
              </a:rPr>
              <a:t>Candidaților, care, în clasa a VII-a/a VIII- a, au obținut premiul I, al II-lea sau al III-lea la etapa națională a olimpiadei de limba engleză/ franceză/ germană/ italiană/ spaniolă/ rusă, li se recunosc rezultatele obținute la olimpiadă, în baza diplomei emise de Ministerul Educației Naționale, și li se echivalează cu nota 10 la proba de verificare a cunoștințelor de limbă modernă pentru admiterea în clasele a IX-a cu program bilingv de predare a unei limbi moderne de circulaţie internaţional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bacalaureat 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30/30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Model subiect - </a:t>
            </a:r>
            <a:r>
              <a:rPr b="0" lang="ro-RO" sz="18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www.subiecte2019.edu.ro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 (1 noiembrie 2018 )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model pentru proiectarea testelor de  valuare curentă și a celor pentru teze (clasa a VIII-a și a XII-a 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461/27.08.2018 privind aprobarea Calendarului de administrare a Evaluărilor Naționale la finalul claselor a II-a, a IV-a și a VI-a în anul școlar 2018-2019.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08:59:18Z</dcterms:created>
  <dc:creator>Rodica Cherciu;Manuela Delia</dc:creator>
  <dc:description/>
  <dc:language>en-US</dc:language>
  <cp:lastModifiedBy>Micky</cp:lastModifiedBy>
  <cp:lastPrinted>2018-08-23T12:17:35Z</cp:lastPrinted>
  <dcterms:modified xsi:type="dcterms:W3CDTF">2018-09-16T19:50:59Z</dcterms:modified>
  <cp:revision>84</cp:revision>
  <dc:subject/>
  <dc:title>CONSFĂTUIREA INSPECTORILOR ȘCOLARI PENTRU LIMBI MODERNE</dc:title>
</cp:coreProperties>
</file>