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55F-E0D5-4A1D-A1FE-CC0A6290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741-720D-486A-9471-385055AC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03D-6EFE-40AD-9B46-B041D0C5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FD3-7631-495C-A21A-15E0505E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858-2C0B-4DDC-9F37-419C2ED2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A73-89F9-419A-86D5-6C474DBC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D85-5B62-4388-82E0-6AD332B4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839-A25A-4F8A-B360-2143B257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065-8E0D-4D70-9BD6-BBB8B58C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98B-9F56-462F-97D3-C531DB3D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DD8-4AC9-4FE9-B282-0A5201CC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2EE-73CF-4F51-9766-54CD904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EA8D3-F560-41AF-87F8-07D3A724F6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7:30Z</dcterms:modified>
  <cp:revision>25</cp:revision>
  <dc:subject/>
  <dc:title>Elemente de noutate ale programei școlare pentru disciplina</dc:title>
</cp:coreProperties>
</file>