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  <p:sldId id="273" r:id="rId53"/>
  </p:sldIdLst>
  <p:sldSz cx="12193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slide" Target="slides/slide1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C73D-F0AA-4BD1-88A2-6389039A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1E7-56EB-44B5-AA5C-798FF11E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29884-FA3B-46A5-A180-39FB1539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4DEC2-FE4A-4767-BEDE-0637CCB2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AD214-B852-42A3-8D60-7D7063AF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77DEB-E722-4210-916A-AB77BB40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FFDC0-430B-4865-B92B-B7259771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92520-D7A3-4D41-BB2D-B739AC2A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53D3E-0134-4B03-96B9-2DBA02D4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330FC-40EA-4C8F-9CDD-1967C7E7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5CF93-3456-4BC0-A9F9-C8320A91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33C09-BB28-4434-887E-84219015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30B-644A-40A4-9938-EBD8FEC4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B8C05-6ACC-47B0-99C4-366E555B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C352D-D392-4228-8544-AEAF16A1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446B5-6950-4842-8743-CBDBCE8C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F9C2F-85DA-47D2-9161-32D8296D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B0F8D-4AA6-4857-9459-0B557848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BA8F1-4032-4E06-86C0-B005323B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3052A-FD6D-4A1E-9F87-CCCDC2C4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45CF8-9BEB-4889-809B-D5E220E2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C6132-FB44-4B5C-8D72-C614ADAD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823AD-735B-4C05-9857-F4BC1B9F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93D6-6A18-4D66-9CB5-0D83159A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3E5AF-2568-4BE4-93FE-AF12B871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AAB58-27DA-4F6B-B024-2D7A9238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E4264-EB26-49FB-B53D-7B3B3376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4A5C1-E550-4496-91AC-93F2EFA0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493AF-6806-4A47-85FE-F646665B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A5DAB-0A9D-4DC7-9528-2CA120DF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71185-1BCB-4AA1-97E7-23033C06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31738-CFD4-44AE-8B3D-E46AAB06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1D763-0873-4C1D-A50F-DE72532E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7F224-7865-49EB-9C9B-34BC14BF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CBEE-7436-48FD-9F8D-9484419F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80001-41DC-4EF0-A2FA-E4AC4BE6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0E452-F56A-45A1-8542-067CAC14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C0E6A-851C-4315-8ECC-9F5135C6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56F4E-BA32-4828-B329-17ADF0AB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CAC64-7EA6-4CAE-8F6B-78F3DB03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15DEE-3CD8-49DE-8FB5-DD4DAF0B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5BFED-700B-4856-8F77-E93A06B5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24D4C-8ADE-42A5-A311-3F9D296B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CB56D-A278-4485-8D4F-ECF683C4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37EBE-1A6E-47F9-A555-8A60A155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3403-D907-4BC7-A278-0866F643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7180C-920E-488D-8B1D-DEBB43AA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78335-7D1F-4059-AF85-C91073CB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6F25A-3671-43E8-A1F9-67F88EF0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A75F6-D009-4D66-B396-1641FFE2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BA960-E9B5-4485-BD83-80AD9A8E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83579-5D7E-48A6-89C9-75DEAFC1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EED06-94AF-4576-A46D-1A70FD79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31FDE-2BD1-4B4B-A0B5-D28E2E68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1FF4B-F4C2-497C-8610-88EC1AC9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EBB40-1AC0-47C4-95E3-F17FD7FE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6D7D-4788-4CC3-89F9-7B32FFAF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35A01-3989-4A5F-9552-CB404CE2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DD250-B8FA-48CA-8DF9-91B39ABC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B9AF3-7932-4901-B29C-6CF6C336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337FB-3205-4678-AD61-B7EA0754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CE5AF-9485-4FA0-9852-87ADAE56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8E18AA-115A-4BA0-9158-C3500357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1E79E-280B-4123-A725-56C2CD50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82F6D-2BDA-4614-B5FF-CC47FEDD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04D5CA-8333-456B-BD90-53ABFF38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63636-3846-4549-BBF7-206955AC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5FDD-656F-482C-AF62-5C448B60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C31B61-55DB-4E12-B13E-AF4E0187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22DDE-EEFB-4493-B558-D85FE476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D89BE1-262F-41DA-BDB5-83711AF2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9FDBF-37E2-4293-AB6F-27F4B8FA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82B3EE-FB48-4BD8-A779-653E4394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E7ADD8-BB1A-4D30-932C-72D46500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C3D73-8C5F-464E-A7D2-DBFF170C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C4D0A1-3EA1-4588-A4E4-9E590433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F8AF9-DA8A-44B1-898C-90C8951A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C1FCED-3FD7-48A4-9AE4-C0785374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9A1A-DA05-4D63-B77B-CA9AF834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95BBCB-2B2E-4987-B660-73C9E83B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4C5AF0-A625-48BB-A432-D9119B40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DB3FF0-3A00-41F3-96D0-C22482BE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C82454-6E49-41A9-B405-EA1D2599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391014-66FB-4A35-B4A2-319D3DF1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E60216-8361-40D3-A301-FC217478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2B9A25-0712-462A-B223-6054AB9F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7C97A-6C72-47A5-B14D-6E9322AB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8C8633-C7D8-4532-B38F-1B87FA4A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3B0E89-27BC-4246-A42A-DB931D24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BB98-2964-4FD3-8E7D-1E765BEF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FD3FDC-0C91-4065-B676-FEA02388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E3999C-E874-4801-B4E7-4E5DB94D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C57D89-8C1F-4654-9586-7BF5EC26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D32A23-CAE9-492B-8820-67E84B95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85D10D-D87C-4EE5-90BF-DAAC7B88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C1F60C-46A9-4AFE-AB5C-EF9BD5FA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C2BD42-EEE9-4C71-A915-43F04847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958F9D-EB84-488A-A73A-EBBF2CC5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0FFDDE-CB7C-4E95-BDAE-E2621796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99602F-E8D5-4036-A311-ACD4063C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6BFD-BFA9-47B1-BCC9-E8DA39ED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E83AD2-3075-4A52-8134-E44682D1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69B8A4-D77F-424E-BECF-FC54836C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CB590D-1F28-464A-A77A-28B4D9A4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CCCB70-15C8-46C6-8DEF-87F59E6A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4E02EE-6F50-4525-9BEB-50136B3C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A00097-2472-43D9-A86E-4BE0C86F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CE1AE9-EC25-42E2-ACF4-3BAB471E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716ABB-BB15-44B6-8417-D07C46F5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2600B7-F55A-494A-89A6-51D95DEA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0E0DD2-164C-4F1C-9275-34234F68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7B7-4C10-4123-9D01-C626383F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A4E3-7D32-4691-A53C-06DC995B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D9D97A-0F5A-44DA-A457-3DA7B77E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704C55-0D1A-4E4C-97CD-2C04B1E9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6E1ACF-8A7E-4A07-BFF8-42F483D3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BE6165-D25D-4E92-8E3D-838180BD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020227-180F-472F-932D-A6C48CE7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DF6C7B-54E1-4938-9486-640D3349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995631-2369-4A0F-987B-1FFF140E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9510FB-1CE9-4948-A103-9E7C53F8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C6340C-00D7-422A-8DD3-7234ECF6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0D4DC9-0487-45DB-94F2-4F59A710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8368-8257-4E62-BB03-3D59ED71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2B395D-C340-4D2C-BCB1-E15A5E5C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5EF854-4097-4CD9-BB6A-252B1301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FC2417-275B-4D0F-9EA5-FFBF0381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905453-4E15-4202-ADA5-6D3CD519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F4BBAF-5655-44ED-9CF9-95802D10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4B99BE-8E32-4390-85F3-8E2ACB29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8FDFD5-C9BB-499B-B5AB-D63A356B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CA4B20-DC6A-4B0C-B6D6-1A361688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61847B-4F91-4A89-ABBC-B0573E8A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6ADC25-66CD-4DCB-A2C3-281C6E20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9578-B4CA-4786-A7BF-4271D84A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2D9336-591C-484F-9638-FBD71F7A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222106-C6D9-42F8-9AA0-00A43C48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BBA3D1-423A-4754-95F4-7E78A96A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B39840-8271-4EA6-94F2-6CFEC6DD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ED5DFF-E994-4848-A5E7-D80265AA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DAD71B-1D3C-4A01-8F21-093AB540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B8D3CA-E910-4F1E-9228-06680D6E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87E6FE-CF2B-4470-82E9-CE9343C9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50337E-B53E-479B-8BFA-C3268B70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9A210D-0B6D-4336-A97D-3A789A10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87DF-93F9-478B-ACAE-7B63DA84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B83135-8C8F-45C9-A063-EB55BF15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5543B0-59CD-497F-ABDB-527E7FE5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6A73CB-4FC8-4262-8D31-13DD43E5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BC0304-670F-4D65-8C5E-CD6B4ACD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AD8E76-1BB0-4A1B-BC67-9A75B5BB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49D162-6D7B-4920-941F-AF99F267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31298E-B4B9-4631-8FE6-055DC7A2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ED2694-5346-48CD-8FD8-514372DF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F019F8-094C-47E0-9AED-DAB6B851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2D7916-A33A-417D-BCF2-D9DCDCD8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6355-EBB3-42A4-8F45-6930DBB0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7F69B4-5EA5-4928-A8DD-E760D3BC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B360F6-443A-43E9-B8F0-36802FBF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033D80-33C6-46BF-8993-AF7233A8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A5DF3B-3FDD-4C4F-BB70-24A21520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9CF299-2411-4ECB-8115-0C5DB1F0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88E0D1-E988-4469-9178-1BC81122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A31C2E-3467-4CDF-A5C5-C13912D9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71A853-3785-4B76-8260-235089B1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2A2F5E-FDD6-436A-B057-3F70E2E3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30745C-EF94-4C4A-A369-23F2D649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AE2ED-57B8-4AC9-9A9A-FB53594A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7F7602-D903-4800-B902-843D623B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1B95DF-8509-4E56-8681-42311ACB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6DF7B5-12F4-46F9-AEEE-8E59E41C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2F40BB-6C1D-4084-9553-73FCCF16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CA1B54-A94C-4A48-853A-499980E3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A6A61B-D032-49E1-AB52-0FD8481B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F91BD3-2E8D-4F64-9B8F-C72CBA36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CD936D-9747-43AA-8B59-7932B69E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A6DE37-FA9D-4825-80D7-167E6D09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F7808B-2FC9-4C94-80E6-3B77A541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C8A35-5F3A-4061-B01D-1030ACDF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3EEA3B-DA05-4834-86B1-A90E3FF3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CB0543-766A-4571-A5E5-C5D83640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C9FE2A-E4AB-4A20-AA9C-E490F8A2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5F49DF-3D59-4DDF-940E-CE2C2CF3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6E54AF-770E-4527-AFCF-B90B6043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3DFD33-AFFF-43CD-9CD8-6A52B033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F2F127-4993-43F6-AFFF-1F61C1A3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9CE83A-2DF1-46D4-89FF-FF94E498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A43FCF-85AD-446D-BECA-5F00E8C2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CD19A5-86ED-4B09-9A28-11C798A4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B826A-7662-40CF-95C8-7C5FF9C7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0C80BB-E8F5-4DCB-BDD4-3FC5020D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57EE4C-8730-4D29-B27B-C672F591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B9ACC0-E271-4596-A58F-271F3050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93E5D2-D409-44E8-A44A-2679E324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2DCAFB-D2E7-4432-A528-A1039721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B0E535-4F18-4993-B0AA-B099C91A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45915F-A3AE-4E2F-B9EC-2B046E6F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BADFD4-3741-4432-A539-1D2C1F41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54F167-8649-4ACE-A0A4-43B06187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416B0C-38CE-4C35-9C8D-28C5CD8C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27375-2B7B-421E-B41D-04AE6557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E78881-585A-46BD-A970-2CF3D515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3A28C3-1EBC-4641-97E3-F20B92FE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32DCCF-4168-449A-8A64-E5A383EB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849E3F-2DB7-44C5-B711-2C6509A3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96B321-4E54-417C-9701-6EC2FB8A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58723E-DCE8-4260-A5F8-7C264331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616302-C610-4E3D-90AD-994962FA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CB9A02-6416-4C65-826E-BD8F9042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BC0821-6CDC-4FA7-848C-3310DB37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5687C1-92F1-496E-82C1-C023055E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BB097-6BF9-42EB-8901-6AB5C2D1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6B2E1D-8CDE-40F5-BEFA-8F8DE87A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AA5060-C7AD-420B-90A0-4EEA1CA2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1EDD9C-4757-4ABD-BD7A-F1BECD68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7D21B7-601D-474A-8114-F8F699D6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F49DFC-128F-4D3E-8700-F33B97BD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66DF82-5208-46BD-BE19-5CBEA5B4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6141A1-4D84-443A-9CB4-F3D45A7E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FAB93D-3F95-4F29-8B4B-DDA93AB6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DF0870-F2C9-4CD6-A003-B77FB6AC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63B236-4965-4598-A9A4-430EAABD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642F-9E52-4F9E-AB98-1EB71A4D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30B2D-CA47-4FAE-852B-876DB879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13A440-9AEA-4BD3-9E41-EDB236ED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58A6C9-6B99-4633-9FE9-ABF1A7FF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584D5E-17BF-4A19-845B-19AA3C3F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A67700-B3BA-4D90-AC68-589F85F4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066063-7F54-406A-82A7-3D2D9611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C76959-9A12-41BD-A6EF-3CD90334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804B62-B562-4EC6-8CE1-6D223316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B5CFE6-2F81-45B3-816E-D656C88C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458BFF-95B7-4741-9082-A69281B3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E976DA-FBDD-44F0-8EF1-804CB8AB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AECEC-C6AC-4197-B82C-59840817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F956E5-98A0-428A-8CCB-D3C71F60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248E57-8D19-4C5D-A93F-4E2D510E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8BAFD1-2764-40E5-8F1F-EABD1CD3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29CA95-0B24-453A-9C9A-98EFB9E1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CF3EAA-B7A8-47EA-BF1A-45A4F4CF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332760-D8CD-48E2-AF17-08655852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483E13-F091-4217-821A-A14227C5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381AFD-2FD0-4D7B-A9E3-DE6D9B1E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AEEF00-50AA-49FA-A674-40210048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91C262-0137-42F0-97BB-0121209E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A8DBC-BD39-40DE-91F3-07EC756F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105958-8A7F-4A2F-B211-F24ED5DF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DFF07C-1703-449A-968F-543F8249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D43F3F-77DA-4474-AA27-7C0D85CB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B5131C-15AC-4ED9-91BB-0F0F22E7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2B01C0-14D4-422B-95E8-DB8F943E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DE37EA-BEBB-491E-85FB-12757E0C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FB56E4-D966-4671-B5AE-594B5E36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A51EA2-2E9C-48A3-8B86-EEF85D1B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ED0756-54C5-46A6-A944-FA19B647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6ECA4B-281C-4086-AE61-BF51BF5C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B1618-2193-4BFA-A069-465ADEF8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BA2EC7-5316-44C6-8F30-2D275E3E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D2DFED-0FCF-4103-9F07-C447C678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2BAD04-B197-4078-99F2-B817D9A5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835020-E09D-4890-ADA3-296112C9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CA96FD-3EDE-4612-9B89-B6CFF939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98B5A4-7E86-4222-8640-4C44A3EE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A661EB-B7D7-4CCD-B3B4-BA75CEC2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E5594B-C4D0-4A3C-B31B-33B080BB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34913F-C6E0-413C-8C7B-DC3156AD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3883C4-1667-475C-BA79-1CD5A34F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617C6-556F-4AB1-BE10-4DBCC4AF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328227-20E6-4822-9546-DE1ADC92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D41F9B-8A16-4694-9E5C-68FD66AD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36DBA3-BD12-432D-BEF1-0C6260A6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0311DD-6C54-4DD2-A855-92615AFF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C4006A-6F8C-4F8F-ACEF-04535EED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1B0D5F-1AB7-4DEF-A9AA-C0D39AD1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D9DCEA-2B80-4E39-9D42-63B85970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380613-52CB-467C-A742-D5B6B506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748987-C82B-4A31-AD6F-A1DE2BA4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A57DA2-93B6-4011-AC60-296B4A6A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525F0-D536-45FE-A16A-A51527F3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AF279E-1857-42E4-8B1A-0C45EE26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DC6AF3-6DCE-4FFC-806B-16F7F5A3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C43704-C945-4A24-8CCA-C3DDEC8B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EA8033-AC1F-404C-9C5C-119E246C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41DB95-F592-4B36-9D08-6A8D8B89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AD3761-8236-41C8-B2B0-05A67397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449E8D-5006-485A-89FC-4A801937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733CAF-D66D-428F-8691-BDFE4A74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C9D8FF-FB01-48BB-9B8A-5B4C39E1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29D3A7-B4CD-4AEE-8BFB-F331027B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D71D-AAD9-48B4-9CE0-2FAE772E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76FB36-29F5-4DFF-85CE-01B2D0F6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EAB4DD-7EBA-4D41-8001-0F0AD42C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9CE376-9F92-4E30-8558-14283F7C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ED34E7-F017-4D57-B452-B561D09A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6EA426-E7B5-4871-A227-0EA4A95F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05B700-B810-471B-874C-A6E97745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83B75E-9F33-4AD4-A1F4-97285DB0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7B0B6A-62AF-45FF-A97C-41730551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D534B3-5A92-4B30-9671-CE9C72FE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C3EE1E-0B3E-488B-A2C5-0EBF8C8E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BE776-F2E9-4AF5-A797-0D1DF36F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E97063-5390-49F8-88F3-19FA84E4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F8FC38-2ED3-4D2B-BD3F-004524CE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E8FBC4-A529-458A-A352-23E9294F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AC6B58-FE90-4AE1-B68E-7E48E5B3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FBD477-247F-4A30-A3AD-173B406B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D3DADB-3FFC-4197-A529-23EBACA9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476B90-8B09-4009-929F-44A7F9E0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F5306B-346D-45F9-9665-AB347783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881053-8DFF-429F-B549-51EAA12B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745101-FD61-413F-BF00-C3855117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CEE59-A333-4B72-A3D3-3C055C01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FE6CF9-3577-412C-A012-17302179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21076D-7AA3-4FCC-BDD9-E259E1A4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42CD13B-8124-45C3-A1C5-F9A4E104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7F28BE7-6427-451B-9915-5A5B5823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18561F-EF51-4808-8AF4-74B87F9E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CC8FF6-6B46-433C-B7BA-7CDDBAB4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46EB67-F84C-48CA-A33E-19966FAB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CE93709-DE8B-4F41-A7CF-9AE63A10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84FA76-80A8-4D73-BF94-127E8615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3B2833-2F4F-4F9A-A978-D74E309B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BABCE-1FD9-4D71-A2B1-6009DF91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4EC199-1181-4925-A7B0-44F03EAE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0E0E9D-9C8D-49DC-B1FB-393CB2E9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F28E7E-6510-4547-9EB8-A114A89A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099FFD4-F6CA-419B-A6E5-66D95F13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A379E3-F027-41EB-B34C-24D1A868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3ACFF28-50E0-481C-A885-A530AB57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537469-10FB-42A8-BD6F-07304053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0A12C6-BC8E-4A0D-BB3E-B6FA7F15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5C67F7-7DF0-45F3-83B7-87CE648E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7BC428-8C9F-4CC5-AA7F-2689F0D8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4FF0-ACD4-4E16-91EB-00118B5B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667EF-E69B-4DED-9752-AFD35698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176120-FE24-4C62-8C47-DF78639C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A05C4B-AC20-403F-8136-E1B38A45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216D51-3A75-4B51-8957-B7DDF9C4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4A3E37-CADF-479B-9A50-34F28FB0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D4B120-EF11-4296-9A81-2B13D71C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7E1194-B51F-46B7-A5D8-F15222D6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1D7E5B-7791-4B90-92AD-74AD71DB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942FC0-82D1-48C3-B668-E984262F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A300AD-1C86-4B32-9745-87F0EDEC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25009-D5F3-4DD6-A0A3-C4DCBC17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9DD9E-AFAA-4585-BF88-3B8A4AE8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AA9CF-17FB-4CA4-9DFC-C084B6EF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13FD2-5968-48EC-B48B-521721A3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97659-2569-4FA8-8202-D2149DA6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3B3B7-11DC-476B-B109-C62695F0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C00DD-F66B-4833-AC38-9ABFBF65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8ECFB-63F8-4A11-9C31-56B0DDFB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AA392-BC72-4E21-8B94-6562C267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330-8804-42DA-9D14-05AA43DF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BBD1D-682D-4AB8-9464-4F8D4DFB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F8692-FEEA-4AD0-8353-D3B529E0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02EE5-2875-4BD4-B122-39B1DCA0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87873-3C7F-4EFC-A853-EA757533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D558C-4461-4F97-B572-5F39C690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6CE2E-BA40-49AD-A1B5-D4A70293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60A87-3F3F-4115-A8F8-3DA79E1D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B9FD2-CCDD-47B5-9D1A-4285197D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27AD6-BA97-42B5-83EA-D7536959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7FE1F-8CCE-4AD6-9374-FE825780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1F34-0190-45CA-B61C-7E2BBC7D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9A15E-DFEA-45AE-A606-17A742EA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F634A-4C27-4323-99C1-681FAD81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3401F-D205-4D2A-BB65-B78AF1F2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737FB-1921-4A03-A7E9-2E372724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C9E46-2E47-4F2F-BBA5-C8CEBCA0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0F861-1EAE-4590-A78E-74588B4F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1BF47-AA3C-4998-A403-0AF64C80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04E17-E0BD-4708-83C3-6F33EE89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18725-BBBD-483B-BB69-99B5E1A1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077CE-47EB-4322-8B8D-019D4EA5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563-45E7-43D6-886D-546CAC52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72CF6-5E7D-4222-80E5-193A4A32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E7136-6780-4ECF-A5C4-1F6720A9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85912-27C5-4551-A44C-C0B85769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1DAFB-AC9B-4BB1-B001-79DDF4CE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1C423-8D87-4F23-A97A-59BB27C5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B7682-9106-484B-B4AC-632ACB8E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F2951-73FC-4CEA-BE0F-0100C9E3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616DE-380B-43CD-9402-C1543434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6AA0C-DF82-4BF6-AEC5-B4F4E6A9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7DD00-68B5-40FE-B49D-49B3BE67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6C2-DA0A-4936-98F4-0C217A08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5F886-3D18-45FB-9CF6-7B76D472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D576D-9382-4FCE-B481-45E342CA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C6A9C-4695-45DF-AAE0-6D325D2A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59872-C815-4777-AD97-23B5D00D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5A5FD-1811-4EB3-AD62-E305C752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C5B3D-2A93-4B5E-9301-BC6A2699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A6E7E-6908-41F5-8FAC-E9BF2363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0CC89-91FE-48D9-8348-0088F993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A402E-3D3D-48CA-B92F-DF1FD8FA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9D133-71C6-4057-8FC9-924CEEE6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A0F-CF55-4946-A941-3052ECCF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F7632-325B-4464-A540-D41FAF56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ECA73-8333-42FA-9F8C-92D9E5F8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066D2-48DB-41E6-90DA-DAB36617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F2AE0-963E-4535-8F7A-7B9642DF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DDEA8-8E60-405E-A5FB-8043A400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7A6FC-E893-488B-AFB6-B6E09FAA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EFBA6-9CA0-4A6F-9945-1F8887CB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1D048-B332-4CA5-A57E-1F90DA84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6D057-2D9F-4EB9-9D99-C09889CD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A93CC-E7BC-4DA6-AF43-6FABAC22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F78A-E7E0-4480-8E25-6E614C960D3F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383E-17B3-405A-9B11-50A61CE1CE79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8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3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CB79-9D56-4E38-90C5-061708312A2F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183F-7FAA-40FD-85DC-3B05698BC00E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2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9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E3AE-ADF5-4DC4-B3E8-7594ED24DDD6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081C-9EDC-4D2F-88CB-68635AA49888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6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D02F-6F83-4C7C-A2AB-F7B4CB39F232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48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9621-2C74-4F75-A1DC-33090DAD4093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D24E-415E-4479-A059-179843BFE519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7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8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90E4-B46C-4640-A3FE-0072F47E9E3B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24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25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dt" idx="5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ftr" idx="5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sldNum" idx="57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D71F-1A9C-4CD5-90CD-B33019220AFF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B1B3-3317-495B-9FD6-91858865E1F9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1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2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5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5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6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1CE5-8E32-48CD-AAB0-FDB63210AE7F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9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6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6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6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0D2E-0E86-42A4-8C43-6D46BA4E4CA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45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6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6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6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6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6E7F-BD86-461A-AC63-746A679C7F17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2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3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dt" idx="6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ftr" idx="6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 type="sldNum" idx="6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474A-8DB5-4EDA-940E-9BFB8ACD7091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9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0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 type="dt" idx="7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 type="ftr" idx="7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 type="sldNum" idx="7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C72F-4B7D-440C-8F48-BFF28AFB3F88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65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7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dt" idx="7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ftr" idx="7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 type="sldNum" idx="7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D72B-60EC-4A8D-946E-4FB0C62E8678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2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74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 type="dt" idx="7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ftr" idx="7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 type="sldNum" idx="7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9600-396E-452E-A04D-E229C58ADE50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9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1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 type="dt" idx="7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 type="ftr" idx="8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 type="sldNum" idx="81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0BEA-0CCD-4531-A82B-FFE6131BE756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86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7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8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 type="ftr" idx="8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 type="sldNum" idx="84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128B-5D69-479F-ABD5-354627CD09EC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93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94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dt" idx="8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 type="ftr" idx="8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 type="sldNum" idx="87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1995-709B-495B-9604-ABF9B758E63B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2D96-D2DD-4D14-9BC7-938E147E4E0B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0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1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 type="dt" idx="8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 type="ftr" idx="8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5"/>
          <p:cNvSpPr>
            <a:spLocks noGrp="1"/>
          </p:cNvSpPr>
          <p:nvPr>
            <p:ph type="sldNum" idx="9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F0C6-29F1-4D9B-8789-A89CAB3B74B5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8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 type="dt" idx="9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 type="ftr" idx="9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 type="sldNum" idx="9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58C0-50C8-46BE-BC27-F9ADB33487E3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14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5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9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9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96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FB1B-09EE-4F78-A8E4-21858EB473B3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21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2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dt" idx="9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ftr" idx="9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 type="sldNum" idx="9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4C56-DBEB-4AE3-B944-4F52A591423D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28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9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 type="dt" idx="10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 type="ftr" idx="10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 type="sldNum" idx="10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1A33-ACF5-4944-AE0D-17EE159F6D31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05C5-5C11-47CE-B0E4-4F46DACB78F8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5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7DDC-EC98-407C-872C-5600B0A04777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B662-8BEC-4A2C-90A3-BC5AA4CD7916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F904-C1ED-4E45-96A7-68156103EFF8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C279-3EB9-4A37-8662-0241242981F4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87AF-5A42-4CA1-AFFC-720518E9C6D3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programe.ise.ro/actuale.aspx" TargetMode="External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manuale.edu.ro/" TargetMode="External"/><Relationship Id="rId2" Type="http://schemas.openxmlformats.org/officeDocument/2006/relationships/hyperlink" Target="https://www.manuale.edu.ro/" TargetMode="External"/><Relationship Id="rId3" Type="http://schemas.openxmlformats.org/officeDocument/2006/relationships/hyperlink" Target="http://www.edu.ro/" TargetMode="External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ubiecte2019.edu.ro/" TargetMode="Externa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2066400" y="247680"/>
            <a:ext cx="8915400" cy="464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5400" spc="-1" strike="noStrike">
                <a:solidFill>
                  <a:srgbClr val="19017f"/>
                </a:solidFill>
                <a:latin typeface="Calisto MT"/>
              </a:rPr>
              <a:t>CONSFĂTUIREA PROFESORILOR DE </a:t>
            </a:r>
            <a:br>
              <a:rPr sz="5400"/>
            </a:br>
            <a:r>
              <a:rPr b="0" lang="ro-RO" sz="5400" spc="-1" strike="noStrike">
                <a:solidFill>
                  <a:srgbClr val="19017f"/>
                </a:solidFill>
                <a:latin typeface="Calisto MT"/>
              </a:rPr>
              <a:t>LIMBI ROMANICE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 type="subTitle"/>
          </p:nvPr>
        </p:nvSpPr>
        <p:spPr>
          <a:xfrm>
            <a:off x="1689120" y="4776480"/>
            <a:ext cx="1010448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800" spc="-1" strike="noStrike">
                <a:solidFill>
                  <a:srgbClr val="00cc00"/>
                </a:solidFill>
                <a:latin typeface="Calisto MT"/>
              </a:rPr>
              <a:t>17</a:t>
            </a:r>
            <a:r>
              <a:rPr b="1" lang="en-US" sz="2800" spc="-1" strike="noStrike">
                <a:solidFill>
                  <a:srgbClr val="00cc00"/>
                </a:solidFill>
                <a:latin typeface="Calisto MT"/>
              </a:rPr>
              <a:t> </a:t>
            </a:r>
            <a:r>
              <a:rPr b="1" lang="ro-RO" sz="2800" spc="-1" strike="noStrike">
                <a:solidFill>
                  <a:srgbClr val="00cc00"/>
                </a:solidFill>
                <a:latin typeface="Calisto MT"/>
              </a:rPr>
              <a:t> SEPTEMBRIE 2018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1430280" y="623520"/>
            <a:ext cx="100742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METODOLOGII/CONVENȚII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DE PARTENERIAT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/ACORDURI DE COLABORARE 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8" name=""/>
          <p:cNvSpPr txBox="1"/>
          <p:nvPr/>
        </p:nvSpPr>
        <p:spPr>
          <a:xfrm>
            <a:off x="1751040" y="1904760"/>
            <a:ext cx="9431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Metodologia de organizare a secțiilor bilingve francofone incluse în proiectul bilateral franco-român “De la învățământul bilingv către filierele universitare francofone“ aprobată prin ordinul ministrului educației naționale nr. 4424/28.08.2014, publicată în M. Of. nr. 658/08.09.2014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Convenția de parteneriat nr. 9801/29.08.2014 între Institutul Francez din România și Ministerul Educației Naționale în vederea implementării unei serii de acțiuni culturale și educative adresate elevilor și cadrelor didactice pentru promovarea limbii franceze și a francofoniei în învățământul preuniversitar (recunoașterea și echivalarea DELF A1, A2 sau superior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Acord de colaborare (nr. 43 /DS/ 04.02.2014) între Institutul Francez din România și Ministerul Educației Naționale privind recunoașterea participării cadrelor didactice la activitățile de formare continuă realizate de Institutul Francez din România și acordarea de credite profesionale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1531800" y="623520"/>
            <a:ext cx="99727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METODOLOGII/CONVENȚII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DE PARTENERIAT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/ACORDURI DE COLABORARE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1698120" y="2042640"/>
            <a:ext cx="9806040" cy="38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Protocol de colaborare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între Ministerul Educației Naționale și Asociația Română a Profesorilor de Limba Franceză privind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</a:rPr>
              <a:t>implementarea unei serii de acțiuni</a:t>
            </a:r>
            <a:r>
              <a:rPr b="1" lang="ro-RO" sz="32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</a:rPr>
              <a:t>culturale și educative adresate elevilor și cadrelor didactice pentru promovarea limbii franceze și a francofoniei în învățământul preuniversitar</a:t>
            </a:r>
            <a:r>
              <a:rPr b="0" lang="ro-RO" sz="32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</a:rPr>
              <a:t>nr. </a:t>
            </a:r>
            <a:r>
              <a:rPr b="0" lang="fr-FR" sz="3200" spc="-1" strike="noStrike">
                <a:solidFill>
                  <a:srgbClr val="000000"/>
                </a:solidFill>
                <a:latin typeface="Calisto MT"/>
              </a:rPr>
              <a:t>11372/ 12.12.2016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1617480" y="553680"/>
            <a:ext cx="94503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OLIMPIADE ȘI CONCURSURI: REGULAMENTE, METODOLOGII SPECIFICE</a:t>
            </a: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2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Metodologia-cadru de organizare şi desfăşurare a competiţiilor şcolare şi Regulamentul de organizare a activităţilor cuprinse în calendarul activităţilor educative, şcolare şi extraşcolare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– aprobată prin OM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  <a:ea typeface="Tahoma"/>
              </a:rPr>
              <a:t>EN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 nr. 4203/2018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ctualizarea Regulamentelor specifice de organizare și desfășurare a </a:t>
            </a:r>
            <a:r>
              <a:rPr b="0" i="1" lang="ro-RO" sz="2400" spc="-1" strike="noStrike">
                <a:solidFill>
                  <a:srgbClr val="404040"/>
                </a:solidFill>
                <a:latin typeface="Calisto MT"/>
              </a:rPr>
              <a:t>Olimpiadelor naționale de limbi moderne,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conform OM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EN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 4203/2018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Calibri"/>
              </a:rPr>
              <a:t>Rezultatele olimpiadelor școlare (naționale și internaționale) la disciplina LIMBI MODERNE, aferente anului școlar 2017-2018, se găsesc pe site-ul ME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IORITĂȚI EDUCAȚIONAL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4" name=""/>
          <p:cNvSpPr txBox="1"/>
          <p:nvPr/>
        </p:nvSpPr>
        <p:spPr>
          <a:xfrm>
            <a:off x="1456920" y="1673280"/>
            <a:ext cx="100472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PREDAREA – ÎNVĂȚAREA – FORMAREA COMPETENȚELOR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Calisto MT"/>
              </a:rPr>
              <a:t>Centrarea predării pe formarea competențelor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Calisto MT"/>
              </a:rPr>
              <a:t>Relaționarea formării competențelor cu evaluarea acestora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Calisto MT"/>
              </a:rPr>
              <a:t>Accentuarea dimensiunii conștiente a învățării, 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prin proiectarea activităților de învățare care să stimuleze gândirea critică și creativă a elevilor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Crearea unor contexte de învățare care să determine exprimarea perspectivei personale și creativitatea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Elaborarea unor sarcini de lucru care să evite simpla reproducere a unor informații, a regulilor gramaticale, a canoanelor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Utilizarea elementelor de noutate (input audio – video, sarcini de lucru diversificate, atractive, atipice etc.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IORITĂȚI EDUCAȚIONAL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2588760" y="1611360"/>
            <a:ext cx="89154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EVALUAREA – EVALUAREA COMPETENȚELOR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Proiectarea și diversificarea activităților de evaluare astfel încât să stimuleze gândirea analitică, sintetică, creativ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Elaborarea itemilor/sarcinilor de evaluare pe competenț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Utilizarea unor sarcini de lucru diverse, inedite, atractive, care să stimuleze participarea elevilor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Calibrarea testelor de evaluare conform nivelului lingvistic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FORMAREA PROFESORILOR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8" name=""/>
          <p:cNvSpPr txBox="1"/>
          <p:nvPr/>
        </p:nvSpPr>
        <p:spPr>
          <a:xfrm>
            <a:off x="2060280" y="1363680"/>
            <a:ext cx="94438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Valorificarea inspecțiilor efectuate în proiectarea activităților de formare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Includerea, cu prioritate, în cursurile/sesiunile de formare a componentelor de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conținut științific și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metodic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Accentuarea dimensiunii creative a proiectării didactice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Alocarea unui număr mai mare de ore activităților practice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Mentorat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Proiectul CRED (</a:t>
            </a:r>
            <a:r>
              <a:rPr b="0" i="1" lang="ro-RO" sz="2400" spc="-1" strike="noStrike">
                <a:solidFill>
                  <a:srgbClr val="000000"/>
                </a:solidFill>
                <a:latin typeface="Calisto MT"/>
              </a:rPr>
              <a:t>Curriculum Relevant, Educație Deschisă pentru toți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INSPECȚIA ȘCOLARĂ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Elaborarea documentelor de proiectare didactică conform programelor în vigoare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plicarea programelor școlare de limbi moderne la gimnaziu;  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plicarea eficientă a programei școlare pentru clasele cu program intensiv/bilingv de studiu al unei limbi moderne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decvarea procesului de predare – evaluare la fiecare regim de studiu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Respectarea programelor școlare în raport cu criteriile de evaluare specifice examenelor finale de absolvire/de admitere în învățământul liceal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ograma școlară – clasa a VI 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2588760" y="1352160"/>
            <a:ext cx="89154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Elemente de noutate – Programa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este structurată pe formarea – evaluarea competențelor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include procesele de construcție a competenței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indică tipuri de activități specifice formării acestora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relaționează  subcompetențele cu norma lingvistică și conținutul adecvat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face referire la modalitatea de evaluare a competențelor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sugerează tipuri de activități de evaluare specifice fiecărei competențe/subcompetențe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stimulează exprimarea punctului de vedere și creativitatea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2644920" y="1084320"/>
            <a:ext cx="8804160" cy="418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listo MT"/>
              </a:rPr>
              <a:t>SPOR </a:t>
            </a:r>
            <a:br>
              <a:rPr sz="4800"/>
            </a:br>
            <a:r>
              <a:rPr b="0" lang="ro-RO" sz="4800" spc="-1" strike="noStrike">
                <a:solidFill>
                  <a:srgbClr val="262626"/>
                </a:solidFill>
                <a:latin typeface="Calisto MT"/>
              </a:rPr>
              <a:t>ȘI OAMENI BUNI ALĂTURI, ÎN ANUL ȘCOLAR </a:t>
            </a:r>
            <a:br>
              <a:rPr sz="4800"/>
            </a:br>
            <a:r>
              <a:rPr b="0" lang="ro-RO" sz="4800" spc="-1" strike="noStrike">
                <a:solidFill>
                  <a:srgbClr val="262626"/>
                </a:solidFill>
                <a:latin typeface="Calisto MT"/>
              </a:rPr>
              <a:t>2018 – 2019!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2588760" y="5181120"/>
            <a:ext cx="89154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o-RO" sz="1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1531800" y="623880"/>
            <a:ext cx="997272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c00000"/>
                </a:solidFill>
                <a:latin typeface="Calisto MT"/>
                <a:ea typeface="Tahoma"/>
              </a:rPr>
              <a:t>C</a:t>
            </a:r>
            <a:r>
              <a:rPr b="1" lang="en-US" sz="2900" spc="-1" strike="noStrike">
                <a:solidFill>
                  <a:srgbClr val="c00000"/>
                </a:solidFill>
                <a:latin typeface="Calisto MT"/>
                <a:ea typeface="Tahoma"/>
              </a:rPr>
              <a:t>ADRUL NORMATIV PRIVIND ORGANIZAREA </a:t>
            </a:r>
            <a:r>
              <a:rPr b="1" lang="ro-RO" sz="2900" spc="-1" strike="noStrike">
                <a:solidFill>
                  <a:srgbClr val="c00000"/>
                </a:solidFill>
                <a:latin typeface="Calisto MT"/>
                <a:ea typeface="Tahoma"/>
              </a:rPr>
              <a:t> </a:t>
            </a:r>
            <a:r>
              <a:rPr b="1" lang="en-US" sz="2900" spc="-1" strike="noStrike">
                <a:solidFill>
                  <a:srgbClr val="c00000"/>
                </a:solidFill>
                <a:latin typeface="Calisto MT"/>
                <a:ea typeface="Tahoma"/>
              </a:rPr>
              <a:t>PROCESULUI DE</a:t>
            </a:r>
            <a:r>
              <a:rPr b="1" lang="ro-RO" sz="2900" spc="-1" strike="noStrike">
                <a:solidFill>
                  <a:srgbClr val="c00000"/>
                </a:solidFill>
                <a:latin typeface="Calisto MT"/>
                <a:ea typeface="Tahoma"/>
              </a:rPr>
              <a:t> </a:t>
            </a:r>
            <a:r>
              <a:rPr b="1" lang="en-US" sz="2900" spc="-1" strike="noStrike">
                <a:solidFill>
                  <a:srgbClr val="c00000"/>
                </a:solidFill>
                <a:latin typeface="Calisto MT"/>
                <a:ea typeface="Tahoma"/>
              </a:rPr>
              <a:t>ÎNVĂȚĂMÂNT, ÎN ANUL ȘCOLAR 201</a:t>
            </a:r>
            <a:r>
              <a:rPr b="1" lang="ro-RO" sz="2900" spc="-1" strike="noStrike">
                <a:solidFill>
                  <a:srgbClr val="c00000"/>
                </a:solidFill>
                <a:latin typeface="Calisto MT"/>
                <a:ea typeface="Tahoma"/>
              </a:rPr>
              <a:t>8</a:t>
            </a:r>
            <a:r>
              <a:rPr b="1" lang="en-US" sz="2900" spc="-1" strike="noStrike">
                <a:solidFill>
                  <a:srgbClr val="c00000"/>
                </a:solidFill>
                <a:latin typeface="Calisto MT"/>
                <a:ea typeface="Tahoma"/>
              </a:rPr>
              <a:t>-201</a:t>
            </a:r>
            <a:r>
              <a:rPr b="1" lang="ro-RO" sz="2900" spc="-1" strike="noStrike">
                <a:solidFill>
                  <a:srgbClr val="c00000"/>
                </a:solidFill>
                <a:latin typeface="Calisto MT"/>
                <a:ea typeface="Tahoma"/>
              </a:rPr>
              <a:t>9:</a:t>
            </a:r>
            <a:r>
              <a:rPr b="1" lang="en-US" sz="2900" spc="-1" strike="noStrike">
                <a:solidFill>
                  <a:srgbClr val="c00000"/>
                </a:solidFill>
                <a:latin typeface="Calisto MT"/>
                <a:ea typeface="Tahoma"/>
              </a:rPr>
              <a:t> 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355" name="Content Placeholder 2" descr=""/>
          <p:cNvPicPr/>
          <p:nvPr/>
        </p:nvPicPr>
        <p:blipFill>
          <a:blip r:embed="rId1"/>
          <a:stretch/>
        </p:blipFill>
        <p:spPr>
          <a:xfrm>
            <a:off x="1109520" y="2255760"/>
            <a:ext cx="946152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S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  <a:ea typeface="Tahoma"/>
              </a:rPr>
              <a:t>TRUCTURA ANULUI ŞCOLAR </a:t>
            </a:r>
            <a:r>
              <a:rPr b="0" lang="it-IT" sz="3200" spc="-1" strike="noStrike">
                <a:solidFill>
                  <a:srgbClr val="262626"/>
                </a:solidFill>
                <a:latin typeface="Calisto MT"/>
                <a:ea typeface="Tahoma"/>
              </a:rPr>
              <a:t>201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8</a:t>
            </a:r>
            <a:r>
              <a:rPr b="0" lang="it-IT" sz="3200" spc="-1" strike="noStrike">
                <a:solidFill>
                  <a:srgbClr val="262626"/>
                </a:solidFill>
                <a:latin typeface="Calisto MT"/>
                <a:ea typeface="Tahoma"/>
              </a:rPr>
              <a:t>-201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9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7" name=""/>
          <p:cNvSpPr txBox="1"/>
          <p:nvPr/>
        </p:nvSpPr>
        <p:spPr>
          <a:xfrm>
            <a:off x="1061640" y="2133360"/>
            <a:ext cx="104425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Structura anului 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ş</a:t>
            </a: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colar 201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8-2</a:t>
            </a: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01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9 </a:t>
            </a:r>
            <a:r>
              <a:rPr b="0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a fost aprobată prin O</a:t>
            </a:r>
            <a:r>
              <a:rPr b="0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MEN </a:t>
            </a:r>
            <a:r>
              <a:rPr b="0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nr. 3.220/19.02.2018</a:t>
            </a:r>
            <a:r>
              <a:rPr b="0" lang="ro-RO" sz="1900" spc="-1" strike="noStrike">
                <a:solidFill>
                  <a:srgbClr val="ff0000"/>
                </a:solidFill>
                <a:latin typeface="Calisto MT"/>
                <a:ea typeface="Tahoma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Cursurile anului şcolar 2018-2019 încep luni, 10 septembrie și însumează 168 de zile lucrătoare (34 de săptămâni)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Structura anului școlar cuprinde semestrul I (10 septembrie 2018 - 1 februarie 2019) şi semestrul al II-lea (11 februarie 2019 - 14 iunie 2019)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Vacanţele elevilor din toate ciclurile de învățământ sunt programate astfel: vacanţa de iarnă (22 decembrie 2018 - 13 ianuarie 2019), vacanţă intersemestrială (2 - 10 februarie 2019), vacanţa de primăvară (20 aprilie - 5 mai 2019) şi vacanţa de vară (15 iunie - 15 septembrie 2019)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Suplimentar, clasele din învăţământul primar şi grupele din învăţământul preşcolar beneficiază de vacanţă în săptămâna 27 octombrie - 4 noiembrie 2018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Pentru clasele terminale din învăţământul liceal, anul şcolar se încheie în data de 31 mai 2019, iar pentru clasa a VIII-a, în data de 7 iunie 2019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8" name="Title 1" descr=""/>
          <p:cNvPicPr/>
          <p:nvPr/>
        </p:nvPicPr>
        <p:blipFill>
          <a:blip r:embed="rId1"/>
          <a:stretch/>
        </p:blipFill>
        <p:spPr>
          <a:xfrm>
            <a:off x="2030400" y="457200"/>
            <a:ext cx="9588600" cy="1378080"/>
          </a:xfrm>
          <a:prstGeom prst="rect">
            <a:avLst/>
          </a:prstGeom>
          <a:ln w="0">
            <a:noFill/>
          </a:ln>
        </p:spPr>
      </p:pic>
      <p:sp>
        <p:nvSpPr>
          <p:cNvPr id="2359" name=""/>
          <p:cNvSpPr txBox="1"/>
          <p:nvPr/>
        </p:nvSpPr>
        <p:spPr>
          <a:xfrm>
            <a:off x="1496520" y="2114640"/>
            <a:ext cx="1000764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Calisto MT"/>
                <a:ea typeface="Tahoma"/>
              </a:rPr>
              <a:t>● 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OMENCS nr. 3590/5.04.2016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  <a:ea typeface="Tahoma"/>
              </a:rPr>
              <a:t>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- 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  <a:ea typeface="Tahoma"/>
              </a:rPr>
              <a:t>Plan-cadru de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învățământ pentru gimnaziu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●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OM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  <a:ea typeface="Tahoma"/>
              </a:rPr>
              <a:t>EN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 nr. 4221/01.08.2018 privind modificarea și completarea Ordinului ministrului educaţiei naţionale nr. 3590/2016, privind aprobarea planurilor-cadru de învăţământ pentru învăţământul gimnazial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●  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Planurile - cadru  și programele școlare valabile în  anul şcolar 2018-2019  pot fi accesate la adresa:   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ea typeface="Tahoma"/>
                <a:hlinkClick r:id="rId2"/>
              </a:rPr>
              <a:t>http://programe.ise.ro/actuale.aspx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"/>
          <p:cNvSpPr txBox="1"/>
          <p:nvPr/>
        </p:nvSpPr>
        <p:spPr>
          <a:xfrm>
            <a:off x="2090880" y="831600"/>
            <a:ext cx="9378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Calisto MT"/>
              </a:rPr>
              <a:t>OMEN nr. 3027/08.01.2018 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pentru modificarea și completarea Anexei - Regulament-cadru de organizare și funcționare a unităților de învățământ preuniversitar la Ordinul ministrului educației naționale și cercetării științifice nr. 5079/2016 privind aprobarea Regulamentului-cadru de organizare și funcționare a unităților de învățământ preuniversitar (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modificarea și completarea </a:t>
            </a:r>
            <a:r>
              <a:rPr b="1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art. 66 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– privind atribuțiile catedrelor/comisiilor metodice în elaborarea ofertei CDȘ și selectarea auxiliarelor didactice și a mijloacelor de învățământ 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Regulamentul – cadru de organizare şi funcționare a claselor cu  predare a unei limbi moderne în regim intensiv sau bilingv în unitățile de învățământ preuniversitar – aprobat prin OMEN nr. 4797/2017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1968480" y="449280"/>
            <a:ext cx="88660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FERTA NAŢIONALĂ PENTRU MANUAL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ȘCOLARE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2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Manuale școlare digitale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- </a:t>
            </a:r>
            <a:r>
              <a:rPr b="0" i="1" lang="ro-RO" sz="2400" spc="-1" strike="noStrike">
                <a:solidFill>
                  <a:srgbClr val="000000"/>
                </a:solidFill>
                <a:latin typeface="Calisto MT"/>
              </a:rPr>
              <a:t>Manuale școlare - 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1"/>
              </a:rPr>
              <a:t>https://www.manuale.edu.ro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2"/>
              </a:rPr>
              <a:t>/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</a:rPr>
              <a:t>Auxiliare didactice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– OMEN nr. 3022/2018 privind aprobarea auxiliarelor didactice din învățământul preuniversitar (anexă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</a:rPr>
              <a:t>Mijloace de învățământ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omologate în perioada mai-iulie 2018, în vederea utilizării lor în învățământul preuniversitar (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3"/>
              </a:rPr>
              <a:t>www.edu.ro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 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919160" y="398520"/>
            <a:ext cx="8886960" cy="11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METODOLOGII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ALE 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EXAMEN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LOR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 NA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IONAL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201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9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4" name=""/>
          <p:cNvSpPr txBox="1"/>
          <p:nvPr/>
        </p:nvSpPr>
        <p:spPr>
          <a:xfrm>
            <a:off x="1054080" y="1709280"/>
            <a:ext cx="1061568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</a:rPr>
              <a:t>Recunoașterea și echivalarea rezultatelor obținute la examene cu recunoaștere internațională – </a:t>
            </a:r>
            <a:r>
              <a:rPr b="0" lang="ro-RO" sz="1700" spc="-1" strike="noStrike">
                <a:solidFill>
                  <a:srgbClr val="000000"/>
                </a:solidFill>
                <a:latin typeface="Century Gothic"/>
              </a:rPr>
              <a:t>aprobată prin OM nr. 5905/2016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Examenul național de evaluare națională - </a:t>
            </a:r>
            <a:r>
              <a:rPr b="0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813/29.08.2018</a:t>
            </a: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;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Admiterea în învățământul liceal și profesional de stat - </a:t>
            </a:r>
            <a:r>
              <a:rPr b="0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– 4829/30.08.2018</a:t>
            </a: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o-RO" sz="1700" spc="-1" strike="noStrike">
                <a:solidFill>
                  <a:srgbClr val="ff0000"/>
                </a:solidFill>
                <a:latin typeface="Century Gothic"/>
              </a:rPr>
              <a:t>Candidaților, care, în clasa a VII-a/a VIII- a, au obținut premiul I, al II-lea sau al III-lea la etapa națională a olimpiadei de limba engleză/ franceză/ germană/ italiană/ spaniolă/ rusă, li se recunosc rezultatele obținute la olimpiadă, în baza diplomei emise de Ministerul Educației Naționale, și li se echivalează cu nota 10 la proba de verificare a cunoștințelor de limbă modernă pentru admiterea în clasele a IX-a cu program bilingv de predare a unei limbi moderne de circulaţie internaţională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Examenul național de bacalaureat  - </a:t>
            </a:r>
            <a:r>
              <a:rPr b="0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830/30.08.2018</a:t>
            </a: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 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i="1" lang="ro-RO" sz="1700" spc="-1" strike="noStrike">
                <a:solidFill>
                  <a:srgbClr val="000000"/>
                </a:solidFill>
                <a:latin typeface="Century Gothic"/>
              </a:rPr>
              <a:t>Model subiect - </a:t>
            </a:r>
            <a:r>
              <a:rPr b="0" lang="ro-RO" sz="17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www.subiecte2019.edu.ro</a:t>
            </a:r>
            <a:r>
              <a:rPr b="0" i="1" lang="ro-RO" sz="1700" spc="-1" strike="noStrike">
                <a:solidFill>
                  <a:srgbClr val="000000"/>
                </a:solidFill>
                <a:latin typeface="Century Gothic"/>
              </a:rPr>
              <a:t> (1 noiembrie 2018 ) - </a:t>
            </a:r>
            <a:r>
              <a:rPr b="0" lang="ro-RO" sz="1700" spc="-1" strike="noStrike">
                <a:solidFill>
                  <a:srgbClr val="000000"/>
                </a:solidFill>
                <a:latin typeface="Century Gothic"/>
              </a:rPr>
              <a:t>model pentru proiectarea testelor de evaluare curentă și a celor pentru teze (clasa a VIII-a și a XII-a )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461/27.08.2018 privind aprobarea Calendarului de administrare a Evaluărilor Naționale la finalul claselor a II-a, a IV-a și a VI-a în anul școlar 2018-2019.              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5" name="Picture 2" descr=""/>
          <p:cNvPicPr/>
          <p:nvPr/>
        </p:nvPicPr>
        <p:blipFill>
          <a:blip r:embed="rId1"/>
          <a:stretch/>
        </p:blipFill>
        <p:spPr>
          <a:xfrm>
            <a:off x="2625840" y="522360"/>
            <a:ext cx="80787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6" name="Picture 2" descr=""/>
          <p:cNvPicPr/>
          <p:nvPr/>
        </p:nvPicPr>
        <p:blipFill>
          <a:blip r:embed="rId1"/>
          <a:stretch/>
        </p:blipFill>
        <p:spPr>
          <a:xfrm>
            <a:off x="2558880" y="1606680"/>
            <a:ext cx="817884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2T08:59:18Z</dcterms:created>
  <dc:creator>Rodica Cherciu;Manuela Delia</dc:creator>
  <dc:description/>
  <dc:language>en-US</dc:language>
  <cp:lastModifiedBy>Micky</cp:lastModifiedBy>
  <cp:lastPrinted>2018-08-23T12:17:35Z</cp:lastPrinted>
  <dcterms:modified xsi:type="dcterms:W3CDTF">2018-09-16T19:23:24Z</dcterms:modified>
  <cp:revision>85</cp:revision>
  <dc:subject/>
  <dc:title>CONSFĂTUIREA INSPECTORILOR ȘCOLARI PENTRU LIMBI MODERNE</dc:title>
</cp:coreProperties>
</file>