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6390-9C6D-48BA-9A4C-B69B945ED9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817C-9AE8-4FE1-823E-5F09E7033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11A0-6043-4EB6-9B85-5385E8D1ED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A080-65F8-4601-A4FA-173C2BBB1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AEAF-D799-4568-A3EC-F6F80BC3E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096-AF81-41EA-A358-A1FB4B44E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E001-A637-4E6F-8FE4-E4BE542D4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89A1-8F0A-477A-8D00-3A531C1BE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E72-BCFC-4D9F-B884-7B135B29D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273-E6FC-4ADF-93E0-721140D4D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F526-50B4-4652-B082-8AB8A19BA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D881-BD64-41BA-B664-BDDB415DD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93C-1FAD-4795-9461-D1E81EAF4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7C2C-9567-4906-B8CA-0CEA9E488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9B41-D1F2-4009-98AB-AAEFDD9CE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8FB-28A4-44F5-9410-45C3CF531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DBCB-3D9F-421B-9846-879293A4D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1D91-39FB-430B-8112-482CE654D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53C3-3F29-4C47-9220-499F2D126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0C3D-FA51-40DA-99B3-7269581B8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A2D4-B015-43AF-9EA9-C248F4CEE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0660-B62A-44D5-957D-4413DBFD1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740-B806-45A7-A554-BFBBF6AF5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6296-8ADC-44C5-9BBD-50001732C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62A-9206-4124-959D-C6FB7342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E9A-4B75-4E42-ACDD-0C8208CB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604-16CC-47B0-808A-E8BE2D14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D3C-E091-4E32-A9A4-E76D9217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7F40-45E1-4E2C-820C-B2824B9F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CDA7-F860-495D-9CE7-89016A54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D346-3FCD-4253-95E1-6DDF9B8C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493B-388F-4577-9DFA-1E59164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524-B401-474D-8A1F-D66E186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C4EE-4A14-4945-98D4-6E56BAE6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0F45-184D-48F1-8DA4-5C47A8E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733-889B-468C-97FF-B5A0CC8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ADF-0EE7-49CF-8B6C-05D28C9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04F-CD5A-41B2-8478-6DED5808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966-BDD6-4DF9-9924-A29FBEEB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054-B34A-4146-810D-54A3556B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8FC2-768F-4212-8ED4-E80F454A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9E1-7599-4F56-A0A0-378B0CF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462-75B6-4040-BB68-95F9DBB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F8A-0034-4C8C-96BA-9F6CF732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833-6D80-4D51-A47D-7FAEECC4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0F0-74FF-4805-88C5-BA9B6FA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189-377E-4544-9D5F-B69CDB9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855-400D-4906-B2D6-2921C65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6ABE-2B12-4E03-9C15-370FBE21333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74560" y="5479920"/>
            <a:ext cx="8569440" cy="1368720"/>
          </a:xfrm>
          <a:prstGeom prst="rect">
            <a:avLst/>
          </a:prstGeom>
          <a:gradFill rotWithShape="0">
            <a:gsLst>
              <a:gs pos="0">
                <a:srgbClr val="977d67">
                  <a:alpha val="60000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1C6B-3753-4F0F-919D-220E28CCC75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c_speranta@ise.ro" TargetMode="External"/><Relationship Id="rId2" Type="http://schemas.openxmlformats.org/officeDocument/2006/relationships/hyperlink" Target="mailto:c_speranta@ise.ro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ldr.ro/wp-content/uploads/2016/04/2.-Document_fundamentare_plan-cadru-gimnaziu_ISE.pdf" TargetMode="External"/><Relationship Id="rId2" Type="http://schemas.openxmlformats.org/officeDocument/2006/relationships/hyperlink" Target="http://www.ise.ro/wp-content/uploads/2015/07/Document-politici-curriculum_draft_mai_2016.pd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edu.ro/sites/default/files/Lista%20GrupLucruCurriculum%20V-VIII_0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1680" y="2276640"/>
            <a:ext cx="40719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Programa școlar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Consiliere și dezvoltare personal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gimnaziu</a:t>
            </a:r>
            <a:br>
              <a:rPr sz="2300"/>
            </a:b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8748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peranţa Ţibu</a:t>
            </a: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stitutul de Ştiinţe ale Educaţiei Bucur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Sinaia, 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şcolară Consiliere și dezvoltare personală gimnaziu</a:t>
            </a:r>
            <a:r>
              <a:rPr b="0" lang="en-US" sz="2000" spc="-1" strike="noStrike">
                <a:solidFill>
                  <a:srgbClr val="0849a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849a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potenţialului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ai albi"/>
          <p:cNvPicPr/>
          <p:nvPr/>
        </p:nvPicPr>
        <p:blipFill>
          <a:blip r:embed="rId1"/>
          <a:stretch/>
        </p:blipFill>
        <p:spPr>
          <a:xfrm>
            <a:off x="539640" y="285264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mila"/>
          <p:cNvPicPr/>
          <p:nvPr/>
        </p:nvPicPr>
        <p:blipFill>
          <a:blip r:embed="rId2"/>
          <a:stretch/>
        </p:blipFill>
        <p:spPr>
          <a:xfrm>
            <a:off x="3780000" y="2970360"/>
            <a:ext cx="244944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oacaze"/>
          <p:cNvPicPr/>
          <p:nvPr/>
        </p:nvPicPr>
        <p:blipFill>
          <a:blip r:embed="rId3"/>
          <a:stretch/>
        </p:blipFill>
        <p:spPr>
          <a:xfrm>
            <a:off x="971640" y="4653000"/>
            <a:ext cx="266544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Fetita in campul cu maci"/>
          <p:cNvPicPr/>
          <p:nvPr/>
        </p:nvPicPr>
        <p:blipFill>
          <a:blip r:embed="rId4"/>
          <a:stretch/>
        </p:blipFill>
        <p:spPr>
          <a:xfrm>
            <a:off x="6300720" y="3284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507672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50920" y="3284640"/>
            <a:ext cx="8137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tarea de bin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a copilului cu sine şi în relaţie cu alţ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ştintizarea propriilor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resurs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şi a mecanismelor personale de a face faţă situaţiilor dific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reşterea autonomiei î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învăţ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gătirea pentru 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umea mar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– 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arier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ă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,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 prof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ie,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ocupaţie, meser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ănătatea personală şi a medi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92360" y="1663200"/>
            <a:ext cx="51436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gimnaz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Fundamentarea pe date ale </a:t>
            </a:r>
            <a:r>
              <a:rPr b="1" lang="ro-RO" sz="24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ercet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Review de literatură - competenţe, metode de implementare, metode de evaluare (ISE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abilităţilor noncognitive la adolescenţii din România (UNICEF,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Studii de caz – consilierea în curriculumul altor ţări (ISE,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orezu_BogdenP"/>
          <p:cNvPicPr/>
          <p:nvPr/>
        </p:nvPicPr>
        <p:blipFill>
          <a:blip r:embed="rId1"/>
          <a:stretch/>
        </p:blipFill>
        <p:spPr>
          <a:xfrm>
            <a:off x="179280" y="1773360"/>
            <a:ext cx="3024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“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etențele noncognitive sunt un concept umbrelă care acoperă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cele competențe care nu pot fi măsurate prin teste de inteligență sau de performanță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” (Kautz et al., OECD 2014). În literatură le regăsim sub diferite denumiri: competențe socio-emoționale, </a:t>
            </a:r>
            <a:r>
              <a:rPr b="0" i="1" lang="ro-RO" sz="2000" spc="-1" strike="noStrike">
                <a:solidFill>
                  <a:srgbClr val="0849a0"/>
                </a:solidFill>
                <a:latin typeface="Arial"/>
              </a:rPr>
              <a:t>soft-skills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, abilități de viață, inteligență emoțională, trăsături de personalitate sau caracter, calități morale. Se referă la un set de cunoștințe, abilități și atitudini care stau la baza succesul școlar și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67280" y="1663560"/>
            <a:ext cx="489744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rei domenii de inter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șc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socio-emoț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ezvoltarea carierei (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American School Counselor Association – ASCA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riterii de selecț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maleabilitat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– măsura în care s-a dovedit că respectiva competență poate fi dezvoltată prin intervenții de tip educaț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pot fi subsumate competențelor-cheie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, în mod special competențelor: sociale și civice, spirit de inițiativă și antreprenoriat, competența de a învăța să înveți, competența de comunicare în limba maternă, competențelor digi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școlar: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uprinde competențe noncognitive a căror bună dezvoltare influențează în mod pozitiv succesul școlar al elevil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concept de sine școlar, autoeficacitate școlară, autoreglarea învăță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socio-emoțional: 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 referă la acele cunoștințe, abilități și atitudini care îi ajută pe elevi să își gestioneze stările emoționale și să aibă relații funcționale cu ceilalț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emoționale (exprimare emoțională, înțelegerea emoțiilor, reglarea emoționa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interpersonale (cooperarea, disponibilitatea de folosi ceva în comun/de a împărți cu alții, sprijinul, comunicarea, exprimarea empatiei, oferirea de încurajare sau susținere verbală, în general abordarea prietenoasă sau amabi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Domeniul dezvoltarea carierei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: se referă la capacitatea unei persoane de a se orienta în spațiul educațional și de mun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Ex: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c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pacitatea de a căuta, colecta și înțelege informații, precum și de a distinge între cele relevante și cele irelevante; selectarea unei alegeri din opțiunile disponib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45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826920" y="328464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5 arii de dezvolt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Autocunoașt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Dezvoltare socio-emoțional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Învăț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Carier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Stild e viața sănătos și ecilibr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4 Competențe generale (C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1. Adoptarea atitudinilor pozitive faţă de sine şi a unui stil de viaţ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Sănăto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e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chilibrat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2. Relaţionarea armonioasă cu ceilalţ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în contexte școlare 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xtrașcol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3. Reflectar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asupra motivației ș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ficacității strategiilor pentru progres în învăț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4.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Luarea deciziilor legate de continuarea studiilor şi carieră prin valorificarea informațiilor despre sine, educație și ocupa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8 Competențe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76720" y="1628640"/>
            <a:ext cx="5867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</a:rPr>
              <a:t>Consiliere şi dezvoltare personală la gimnaziu (clasele V-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aloane"/>
          <p:cNvPicPr/>
          <p:nvPr/>
        </p:nvPicPr>
        <p:blipFill>
          <a:blip r:embed="rId1"/>
          <a:stretch/>
        </p:blipFill>
        <p:spPr>
          <a:xfrm>
            <a:off x="0" y="1484280"/>
            <a:ext cx="255600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627280" y="3141720"/>
            <a:ext cx="62658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Timpul schim</a:t>
            </a:r>
            <a:r>
              <a:rPr b="1" lang="en-US" sz="2800" spc="-1" strike="noStrike">
                <a:solidFill>
                  <a:srgbClr val="0849a0"/>
                </a:solidFill>
                <a:latin typeface="Arial"/>
              </a:rPr>
              <a:t>b</a:t>
            </a: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ării: prez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If you don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`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t step forward, 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ou will alwa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s be in the same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modelul învățării la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14840" y="2786040"/>
            <a:ext cx="5214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experiențială (Kolb 1984: experiență concretă, observare reflexivă, conceptualizarea abstractă, experimentare activ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prin comunicare și prin observarea alt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reflexiv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Ciclul dezvoltării unei competențe (Pacearcă 2013: explorare, analiză, sinteză, reinvesti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specificul evaluării la ora de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57680" y="2786040"/>
            <a:ext cx="607212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Promovarea unei culturi a evaluării achizițiilor elevului și nu a evaluării elev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Sultana, 201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reflecția și auto(evaluarea), evaluare între egal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interviuri, proiecte sau sarcini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demonstrație multi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jurnale refle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simulări, demonstrarea practică a competenței, produse ale activită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monitorizarea planului individual de dezvol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portofoliul de învățare (proces și produs) include elemente semnificative din activitatea elevului, care reflectă nivelul atins în formarea şi dezvoltarea competenţelor cheie, oferind o imagine comprehensivă asupra progresului elev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2860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Resurse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lasa a V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14840" y="2786040"/>
            <a:ext cx="48578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Sarcini de învăț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Reflecție, (auto)evalu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inuare, aprofundare (acas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exiuni interdisciplin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63560"/>
            <a:ext cx="86360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onclu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6920" y="2428920"/>
            <a:ext cx="77058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școlară Consiliere şi dezvoltare personal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a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U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gram coerent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consiliere şi dezvoltare personală derulat pe 4 a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Rol de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evenţi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, lucrul cu clasa de elevi, implică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toţ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elevii de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ea ca şi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ontinuum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(lifelong guidan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tribuţie la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filul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form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p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u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 pentru discu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ie, reflec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e, analiză, planificare, empowerment, growth mind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ul şcolar -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prijin, coordonare pentru profesorii diriginţ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Consilierea și orientarea în învățământul gimnazial, 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în contextul reformei curricu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1773360"/>
            <a:ext cx="485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My daily routi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get up, be amazing, go back to b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49a0"/>
                </a:solidFill>
                <a:latin typeface="Arial"/>
              </a:rPr>
              <a:t>V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ă mulţumesc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Speranţa 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nstitutul de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tiin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e ale Educa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c</a:t>
            </a:r>
            <a:r>
              <a:rPr b="0" lang="en-US" sz="20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_speranta@ise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1" descr="Dare"/>
          <p:cNvPicPr/>
          <p:nvPr/>
        </p:nvPicPr>
        <p:blipFill>
          <a:blip r:embed="rId3"/>
          <a:stretch/>
        </p:blipFill>
        <p:spPr>
          <a:xfrm>
            <a:off x="4929120" y="1413000"/>
            <a:ext cx="421488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663200"/>
            <a:ext cx="827892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egea Educ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ției Național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1/2011 –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curriculumul naţional este centrat p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formarea şi dezvoltarea/diversificarea </a:t>
            </a:r>
            <a:r>
              <a:rPr b="1" lang="vi-VN" sz="1600" spc="-1" strike="noStrike">
                <a:solidFill>
                  <a:srgbClr val="0849a0"/>
                </a:solidFill>
                <a:latin typeface="Arial"/>
              </a:rPr>
              <a:t>competenţelor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 cheie care conturează profilul de formare al elev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Clasa pregătitoare la ciclul primar, învățământ obligatoriu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– începând cu anul școlar 2012/2013. Anul școlar 2017/2018: generația ajunge în clasa a 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Reforma curriculară în domeniul Consilieri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3 aprobare curriculum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0-2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Dezvoltare personală (OM </a:t>
            </a:r>
            <a:r>
              <a:rPr b="0" lang="en-US" sz="1600" spc="-1" strike="noStrike">
                <a:solidFill>
                  <a:srgbClr val="0849a0"/>
                </a:solidFill>
                <a:latin typeface="Arial"/>
              </a:rPr>
              <a:t>418/19.03.2013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4 aprobare curriculum învățământ profesional de stat cu durata de 3 ani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IX-X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nsiliere și orientare (OM </a:t>
            </a:r>
            <a:r>
              <a:rPr b="0" lang="en-GB" sz="1600" spc="-1" strike="noStrike">
                <a:solidFill>
                  <a:srgbClr val="0849a0"/>
                </a:solidFill>
                <a:latin typeface="Arial"/>
              </a:rPr>
              <a:t>4437/29.08.2014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643120" y="500076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71840" y="1642680"/>
            <a:ext cx="6572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fundamentare a noului Plan-cadru pentru gimnaziu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scldr.ro/wp-content/uploads/2016/04/2.-Document_fundamentare_plan-cadru-gimnaziu_IS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49a0"/>
                </a:solidFill>
                <a:latin typeface="Arial"/>
              </a:rPr>
              <a:t>OM</a:t>
            </a: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 3590/ 5 aprilie 2016 – aprobarea Planurilor cadru pentru gimna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Planurile cadru pentru învăţământul gimnazial precizează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omeniile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şi 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disciplinele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studiate pe parcursul fiecărui an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şi resursele de timp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locate aces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politici educaţionale - Repere pentru proiectarea şi reactualizarea curricumlumului national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http://www.ise.ro/wp-content/uploads/2015/07/Document-politici-curriculum_draft_mai_201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afele_Anemona"/>
          <p:cNvPicPr/>
          <p:nvPr/>
        </p:nvPicPr>
        <p:blipFill>
          <a:blip r:embed="rId3"/>
          <a:stretch/>
        </p:blipFill>
        <p:spPr>
          <a:xfrm>
            <a:off x="357120" y="1714680"/>
            <a:ext cx="21430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6167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ria curriculară Consiliere şi ori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Disciplina Consiliere şi dezvoltare pers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                               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TC                      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-a 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-a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I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-a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Clasa a VIII-a           1                         0-2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TC=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runchi com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CDS=Curriculum la dec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zia şcolii (opţ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ebe superb"/>
          <p:cNvPicPr/>
          <p:nvPr/>
        </p:nvPicPr>
        <p:blipFill>
          <a:blip r:embed="rId1"/>
          <a:stretch/>
        </p:blipFill>
        <p:spPr>
          <a:xfrm>
            <a:off x="5867280" y="170028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Iunie-iulie 2016: constituirea grupului de lucru pentru elaborarea programelor școlare CDP (GLC 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întâlniri la București (august și noiembrie 2016 sprijin Euroguidance Româ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lucru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nsultare publică (decembrie-ianuarie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integrar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avizare Comisia Naț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trimitere la ordin februari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Bufnita"/>
          <p:cNvPicPr/>
          <p:nvPr/>
        </p:nvPicPr>
        <p:blipFill>
          <a:blip r:embed="rId1"/>
          <a:stretch/>
        </p:blipFill>
        <p:spPr>
          <a:xfrm>
            <a:off x="6215040" y="1428840"/>
            <a:ext cx="264312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6072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rupurilor de lucru (toate disciplinele): </a:t>
            </a: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s://www.edu.ro/sites/default/files/Lista%20GrupLucruCurriculum%20V-VIII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LC 66 precizată și la finalul  programei școlar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MEN : Daniela Călugă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științifică ISE: Magdalena Balica, Speranța Țibu, Angela And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reprezentanți CND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15 cadre didactice (AR, B, CT, MH, MM, PH, SV), inclusiv coordonatori CJRAE, consilieri școlari, profesori diriginți de diferit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28760" y="6429240"/>
            <a:ext cx="54291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162840" y="1785960"/>
            <a:ext cx="2695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442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357120" y="3284640"/>
            <a:ext cx="81756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PROVOCĂRI la început de dr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programelor şcolare pornind de l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.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e competențe vom avea în vedere pentru această disciplin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demersului didactic din perspectiv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achiziţiilor final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le învăţării și a unui model al învățării (Cum învață elevii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luarea în considerare a faptului că elevii din clasele V-VIII se află într-o anumită etapă 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evoluţiei lor cognitive și a dezvoltării socio-emoț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sigurarea unui echilibru între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vechi şi nou (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um asigurăm preluarea elementelor de inovație, cum păstrăm ce a fost valoros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lor specif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în corelaţie cu activităţile de învăţare şi conţinuturile învăţăr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sugestiilor metodolog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prin reflectarea specificului claselor V-VIII în ceea ce priveşte studierea disciplinei (Ce metode vom avea în vedere? Cum se va realiya evaluarea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Elena</cp:lastModifiedBy>
  <dcterms:modified xsi:type="dcterms:W3CDTF">2017-10-02T12:19:39Z</dcterms:modified>
  <cp:revision>38</cp:revision>
  <dc:subject/>
  <dc:title>PowerPoint Presentation</dc:title>
</cp:coreProperties>
</file>