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dica Cherciu" initials="RC" lastIdx="8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7-08-28T16:02:47.289000000" idx="6">
    <p:pos x="1337" y="2016"/>
    <p:text>trebuie sa gasim un sinonim</p:text>
  </p:cm>
  <p:cm authorId="0" dt="2017-08-28T16:03:07.562000000" idx="7">
    <p:pos x="5410" y="2921"/>
    <p:text>de invatare ale elevului</p:text>
  </p:cm>
</p:cmLst>
</file>

<file path=ppt/comments/comment15.xml><?xml version="1.0" encoding="utf-8"?>
<p:cmLst xmlns:p="http://schemas.openxmlformats.org/presentationml/2006/main">
  <p:cm authorId="0" dt="2017-08-28T16:05:15.098000000" idx="8">
    <p:pos x="1954" y="453"/>
    <p:text>Obiective viitoare</p:text>
  </p:cm>
</p:cmLst>
</file>

<file path=ppt/comments/comment5.xml><?xml version="1.0" encoding="utf-8"?>
<p:cmLst xmlns:p="http://schemas.openxmlformats.org/presentationml/2006/main">
  <p:cm authorId="0" dt="2017-08-28T15:41:34.894000000" idx="1">
    <p:pos x="1831" y="2304"/>
    <p:text>Nu este plan managerial</p:text>
  </p:cm>
</p:cmLst>
</file>

<file path=ppt/comments/comment7.xml><?xml version="1.0" encoding="utf-8"?>
<p:cmLst xmlns:p="http://schemas.openxmlformats.org/presentationml/2006/main">
  <p:cm authorId="0" dt="2017-08-28T15:47:18.040000000" idx="2">
    <p:pos x="1831" y="1461"/>
    <p:text>Planul de activitati, rapoarte</p:text>
  </p:cm>
</p:cmLst>
</file>

<file path=ppt/comments/comment9.xml><?xml version="1.0" encoding="utf-8"?>
<p:cmLst xmlns:p="http://schemas.openxmlformats.org/presentationml/2006/main">
  <p:cm authorId="0" dt="2017-08-28T15:49:04.288000000" idx="3">
    <p:pos x="4567" y="1265"/>
    <p:text>obiectelor de studiu</p:text>
  </p:cm>
  <p:cm authorId="0" dt="2017-08-28T15:49:44.120000000" idx="4">
    <p:pos x="4320" y="3322"/>
    <p:text>nu din scoala</p:text>
  </p:cm>
  <p:cm authorId="0" dt="2017-08-28T15:50:09.982000000" idx="5">
    <p:pos x="2921" y="3734"/>
    <p:text>Este portofoliul profesorului...ca om de rand, nu ca sef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D46-DE80-49DD-ACC8-7BD9B9BB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585-36D7-4A5E-B471-0538ABF3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6C65C-F1AF-49DB-8EF0-F45B3C86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A665-6D6B-4607-A7E9-C9262EE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26ED6-702F-4811-B625-F08EE48D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F63E9-6B36-4F14-90D0-C11A410C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CBF1-DDC2-4100-9862-3EE8069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C65D2-6B48-4C1F-A596-9180188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866F2-5596-4004-A17F-68F47B2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10DF9-EAD8-4884-9035-A80FD739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4782D-5667-4896-BE6A-2C8299C7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D23A1-58A7-4BAD-A7D0-C7364374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33A-E598-4F1A-B986-A23C4033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41F15-2A9C-4858-9337-39BD828C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A3243-3971-43F5-9551-88BBE377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BE23F-520F-43BD-8D3F-DB50AAC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9200-4DCC-4F49-B688-7FA17FFA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A064C-FAE2-4FB9-8D47-F7C5871E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AF484-9A05-49C1-AC96-6B7B015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D792-DEB7-4DDF-BB0B-A0C8CD82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E8BAA-A718-45C2-8192-B56B065F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09D40-5EBE-4F46-98B5-1AEB573E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EF807-B630-4EA3-BF2A-B9402BBD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476-D80F-4369-B38B-B5D1BE51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85D06-EE82-4E43-B64C-DDA57998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D469-59FC-4B2B-B47B-3DCBF77F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2DA33-22B5-4C37-A78E-DD675E4C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4F501-BA96-4338-9793-45902FE9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A2C93-4737-41AB-BA53-47EEB1A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422C3-C725-4AC4-9BF8-A52A7B9D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7931F-9566-494E-80B1-90182868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9B617-2CED-496D-8B10-2A42925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E88F0-A4C0-478F-AB02-FB8C898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D8359-6F41-429D-A77E-4A8D855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C8FA-E949-4A41-B3E4-7260F2A5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73987-2152-4A8B-8115-41B8072D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CE89-C280-4389-8784-D9BB45F3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6CB98-E62E-4343-8F99-871F870A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00D8-6098-4E66-8ED0-2D7E9A9B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7A3F-A6C9-484A-9DB1-F06756DE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C30-9991-4D7A-9523-252CFFF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A60-A6E8-4B49-B69A-133C8D0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B422-DED9-4944-9D5D-DB16F442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7F0B-66B0-42A9-9B45-6E2B6CF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495-5738-42D9-AC20-2A12031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4A2-C862-47A0-8CDB-C2F2999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B5B-CBCF-4CEB-ACC8-F7946856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BE3F-DD16-4E0C-AB96-E7C6638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BCF-0465-4C26-A422-3C53BF1F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7B8-925F-40EC-A395-6C4588CB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2838-686F-4132-86F4-5E1AEA0A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8D950-4DD5-428A-AA3F-D74A5215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D285-0758-4EE5-861E-83147ADE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7001-AEF1-4D53-A626-2E12999F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3EC1B-66CB-4886-9154-37EAB859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4A-7E0E-4C24-93A0-DAC04E59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BA56-0107-46F3-9CFD-D717D69A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2538-1F30-4FA6-BD9A-17D3AE8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1C49-4E0D-4C55-9063-3F87F3B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9F4D-FE80-491C-9D88-FE5819B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9C35-A788-4200-B0DD-3B1D06EA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43B4-0205-44CA-9876-D447904C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2DA3-C914-43FE-B44C-BEAFC695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49DC-B075-4AB2-B447-E03B6B94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75AB-573D-4695-ACD0-60DB6AA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367F-E3BC-422B-92AD-E117E2A5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2A8-2867-4258-BEAC-FC0D8D1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4B7B-CB16-4BE3-9EC6-9C17D74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D80ED-31DA-4B5E-9B09-9B4B629B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E609-FB4E-4081-BF58-FF42C830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AD6FB-50A1-4E6C-AC03-EFEB5C2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4BA3-D10A-432A-9162-A24DF65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F327-F04F-44D2-809B-2336C4A1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4FDAB-155B-4EEB-9D7F-F4F3D0B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C479-3584-4489-90A8-105CDC76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3294-7F11-41B1-84C8-69E6AD07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52448-EEE3-45A0-8C2A-450BC8CE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351-C262-4FCD-A071-BFB72D93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490F8-87B1-4DCC-BB15-E93EFF8A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B505-7FA5-48C4-BA95-A154A4E7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0F9F-D4DD-4F5B-8D4F-968E65D0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35C65-38CF-48E1-9C3A-C69E03A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07BCE-EEC3-4711-A812-109469E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49B6-EC59-4F29-AFE9-177B7C32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6979-76CB-4B51-A77F-D41C45C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7946-939F-4969-BC44-6884D01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6D20-1873-4E2C-A98A-95861052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2FE3-051C-4785-893A-797F34D3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8AC-771F-4CCE-88BD-101E27E8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7236-89F1-4B6D-A69E-8EE40254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9FA3-39E4-4FD3-950F-A95BA5E8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0C5D-011E-48FA-88A8-2B88950F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7FFE-23ED-4D13-8526-C0BD9101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6528-78A1-41B2-8A62-45B1251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31EE1-0B0C-4FF0-92E6-89AAC110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92290-EB36-4929-9B81-E7C16E7B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B127D-517C-48ED-8A67-BBDA886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EA95-AC8C-4378-AA28-796BB57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5DD3-A73C-48BE-A730-2801DE2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D37-24D2-4CD3-A0ED-58CF2CC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C37A-8257-4F1D-BF27-057D03CC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8BF8F-874B-4164-86E7-C0BAD377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ABAE-A4AD-472D-B540-C8F23D7F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FD517-62F1-416D-AD4B-26156961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C0FC-82B8-4792-9886-CC2584A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1CEF-B92A-4B1F-9BB2-4C7D4D7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9C44-CB96-44F2-AD46-33C908F8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F97F-7805-4DEA-A443-4D8249DA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911A3-8FAD-4856-9D68-71337AF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C8EE-52F6-4075-9658-6F06D29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398-9AA8-41D5-B4CD-17CC3DCF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0497-F195-4632-B079-4147A7D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8F92-E381-41B4-909C-EC0961C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EA0E-A01C-43C9-8976-FBFDFBDA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E90E-12F3-48BC-9F65-73BF2BC5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55E5-DBDF-4350-8C3F-168030FB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F4BA-986F-4D27-9D81-0D937CE5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BFEB0-F63D-4B30-AE4D-EE408839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60465-E571-4A3C-971F-59E4D805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64FEA-C667-4A19-B917-C08165F4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28BD-4716-4DF3-8693-D3932D7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397-B381-4F22-87F7-BF0C70C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14F3B-F3C0-4C92-8691-EE95541F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E7C0E-E65D-47A7-BEB1-F4B93433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B36B2-E268-4CCD-84A4-A4957AA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8C10D-DECB-4A9B-BF19-2830BB8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97F01-778D-41C5-BBFC-A21912F3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53A96-8266-42A0-BBE4-986176DD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DE40-8684-43EF-B881-1325F643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695A0-FF48-4121-B7BE-93B7FD27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70FDA-2697-4788-922F-F90D2DB7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BE71F-35DF-4084-AE5F-7FAE2C54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70E-0CA2-416A-B9D7-8C9B0EF2E2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B61-FD04-495A-B232-343DC97693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5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44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44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881D-0A8F-443C-A29E-007C412380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66F7-4AF2-4C27-9504-AB19A66D35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8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8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8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BCFA-0C42-4CDB-AC84-BFF53551B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48B1-E4A1-413A-8541-84BAA49E4F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72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73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grpSp>
          <p:nvGrpSpPr>
            <p:cNvPr id="17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7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pic>
          <p:nvPicPr>
            <p:cNvPr id="17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0521-59A0-41C1-8722-8404F58008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2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2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2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2A7-8C00-4542-855F-F2E4C32D02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7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27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74DB-CAB2-49E0-91ED-46963C2CB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836-002C-4DB2-9BE7-DC43088BF4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35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5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pic>
        <p:nvPicPr>
          <p:cNvPr id="36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6340-6F6A-404B-B0F4-276B0E9DB4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8242200" cy="382896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18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SEPTEMBRIE 201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78A-BB18-4FD4-8F2E-6B556833891E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  <p:pic>
        <p:nvPicPr>
          <p:cNvPr id="496" name="Picture 4" descr="Image result for langues modernes"/>
          <p:cNvPicPr/>
          <p:nvPr/>
        </p:nvPicPr>
        <p:blipFill>
          <a:blip r:embed="rId2"/>
          <a:stretch/>
        </p:blipFill>
        <p:spPr>
          <a:xfrm>
            <a:off x="2286000" y="0"/>
            <a:ext cx="4495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5A6B-70F9-46E7-9DFB-C05AF430CF75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094A-1E2F-4507-99C5-0BAFB087FBDC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85440" y="14173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viitoare obiective pornind de la realizările curente ale elevului/grupului, pe baza intereselor şi a progreselor înregist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CA9-4A95-4C1F-97FE-6D5F1AF00593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Decizi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 numi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proiect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 </a:t>
            </a:r>
            <a:r>
              <a:rPr b="0" lang="ro-RO" sz="2400" spc="-1" strike="noStrike">
                <a:solidFill>
                  <a:srgbClr val="ff0000"/>
                </a:solidFill>
                <a:latin typeface="Arial Narrow"/>
              </a:rPr>
              <a:t>H.G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39BB-96FD-4C0D-BB06-4E0537EBD99B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Lucida Sans Unicode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şefului cercului metodi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7CF9-5A9F-4AC8-A311-7CC009CFC699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Substituent număr diapozitiv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61DD-6877-4E30-900C-A906A8400BEA}" type="slidenum">
              <a:rPr b="0" lang="en-US" sz="1000" spc="-1" strike="noStrike">
                <a:solidFill>
                  <a:srgbClr val="5f5f5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7-09-17T19:56:54Z</dcterms:modified>
  <cp:revision>621</cp:revision>
  <dc:subject/>
  <dc:title>Comisia Nationala de Informatica</dc:title>
</cp:coreProperties>
</file>