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6128-5B63-420B-8001-54860EB2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700B-8C06-4DA5-9FA1-DA80F1F3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C39F-60BD-49FA-86B6-D1AB7D05E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A0AE-238E-40BE-95C9-54444AC7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5732-F7D0-4331-A695-FC5DF53D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9A1D-A0CC-4AD9-8F86-0EADA89F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055D-86F5-48F4-85F4-EC85DA7B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F764-C8E1-41FA-9DB9-D5AE5A8D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3F80-03F4-4EFD-AC48-E7675A1E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E448-997E-4475-8E4A-9C1A2FAD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8FF7-F60C-4221-A093-07736617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40D9-D84E-41E0-AAA7-370833F8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1E04-429D-4F35-8401-77CD256E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46DC-877E-4090-BB30-CCEB4586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A8ED-78B5-4C73-9978-78AF7573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6C37-2FE1-472E-BDAB-D08E83A2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7BC6-21AB-42C0-9146-8FAD4394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57431-3719-415C-A494-F8B567A6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ACFFD-FB17-408F-B11F-06D2012F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13124-EDAD-48EF-8736-2A98BB5A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DA2EC-ACEC-437C-B566-0A8E3FF3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2078A-68DF-4208-B361-E1B085A6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D9A9-C343-421B-A4BA-D2854ECC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315B8-D19D-472D-ADE7-B8E9F4E3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32A27-EF3C-4A78-89DA-44787F70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61A7A-430A-4E59-843C-BB625441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4AF2F-3BE0-4688-A53C-E02725D4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FC76E-F9AC-47C6-B3C5-7C0EEEF5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5816D-27DC-4607-96AF-86322330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37047-C0DD-4204-90DC-CC2A1415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757E8-596C-4395-A879-96160BF2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6FF2A-2F3E-4C53-A5EF-3B2C5BCB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DD1D3-E18B-4FF0-AF08-56025322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C877-58B7-44C6-B24D-F1E1844A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59788-F3F5-4562-86DE-DA26C340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A7B02-93DB-4166-AC38-59C23BFF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7EEB8-9F42-48A5-8EBA-6E10E7BA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A61A2-4953-4741-8244-6D0E7A57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B7DC6-65F7-4382-B75C-47C53165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01187-8153-4A85-8A01-109AA6C5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18A64-486D-4AE1-9FEA-C442D664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54537-3892-464A-AF2A-F8C3127D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EAFF4-4554-4705-9232-ADB195B3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693CB-ED08-4FE3-934D-044CBE7B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6D0D-B5A3-44D4-A7C0-EE44F6D6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A3D7A-C381-42F1-B6CD-DD564EED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1B901-E7BE-41EA-88CB-C57E28E4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039B4-A7C8-4ED2-A7F7-DB22156E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DD5BA-937F-4205-8730-3BCDCA1E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A5115-61B9-42F6-9721-3DEAF4F6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C39D4-2316-4F3C-B461-D8C8D272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F8659-CCD5-4F09-96B6-1677264B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BCB12-3FF7-4332-9679-EE4B0959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20A51-FFF1-4406-B89A-E60E9B91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442B1-2940-4F7D-AEA1-A99F8FFE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147C-B6DA-41C3-A0EA-0A64A548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ECE6C-48D0-4F1D-A35E-7E6B2303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C122D-E56F-4DC5-9630-D155B6F1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7CF07-8B5B-4DA2-B032-ECBBC423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4BE95-8F97-44AB-9E4B-74981170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C3FB5-3361-4BD1-8D55-6127A997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EF4AB-6CEB-4081-8F53-06D5A387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DF4F4-2762-4A6F-8D9C-FF1397CF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E24AD-AD36-4260-9BDD-63EBAB36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D7F05-0D86-44CB-B02D-156935BD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54723-E06E-44D8-999F-FC6872F7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0A66-3CDE-4356-B689-7A85F484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8B8B2-0A0A-4380-8CA7-A32059FE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4CA9A-EA7A-4BC3-969F-B250CA04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4F33A-B743-451F-ADDF-FC26CDA5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7A1D9-F8B0-4E05-B7F1-A386B5C2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A6E65-D7B2-46FB-A177-A7E86A80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C4EBB-AB09-4A76-A3CE-3C128BE1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98203-3F65-46BC-AABF-15C586CE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35998-5995-450B-9F84-A4B6AFC4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5BC9A-75D2-425D-929D-B370BF45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BF9C8-6221-411F-A647-A550FCB2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8FCD-E16A-4D9E-9A91-340CB604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FF43C-FE75-4819-8E56-53AD4327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67A0D-0E4A-4DDD-B5A3-FB83ECB5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66811-DF64-4E68-A4EB-0A820971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24E78-53F2-4E70-A91A-93D2125E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FF59A-A23F-4B69-9D25-2B6748B1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9BB84-1288-456B-9634-5C252127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5274A-D133-4B84-B84F-0B37DF44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CC6E0-FDCF-4180-8B5A-C3D50F8E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21AC9-FB52-4758-90CE-C82BB9BE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8E831-15E0-441B-9452-40BF4BA2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0C9A-1038-4B2E-9E6F-5C27EA88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5929B-BADE-4FAF-A5F7-6F94AE3F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97AEE-D6FF-4B21-B359-ED67B24C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C3A5C-18E9-4F6B-9CDB-2EDF9539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401BB-8A74-4328-8DB3-23B4E80E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09480" y="384516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D8FD1-E4D9-4957-BB1F-AF9AA2A3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32320" y="148104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948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232320" y="384516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B5920-FE3A-48BC-8824-69F2B869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48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31964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029800" y="148104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0948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431964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8029800" y="384516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F564F-A837-479E-BAB4-7591BE8C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665280" y="5945040"/>
            <a:ext cx="6588000" cy="920880"/>
          </a:xfrm>
          <a:custGeom>
            <a:avLst/>
            <a:gdLst>
              <a:gd name="textAreaLeft" fmla="*/ 0 w 6588000"/>
              <a:gd name="textAreaRight" fmla="*/ 6588360 w 65880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647640" y="5938920"/>
            <a:ext cx="4921200" cy="933480"/>
          </a:xfrm>
          <a:custGeom>
            <a:avLst/>
            <a:gdLst>
              <a:gd name="textAreaLeft" fmla="*/ 0 w 4921200"/>
              <a:gd name="textAreaRight" fmla="*/ 4921560 w 492120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4548240" cy="1092240"/>
            <a:chOff x="-12600" y="5784840"/>
            <a:chExt cx="454824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45482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369720" y="6421320"/>
              <a:ext cx="22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455472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1F5D5-BD66-43E4-8448-64051BAB70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12201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4680" y="4952880"/>
            <a:ext cx="12196800" cy="1911600"/>
            <a:chOff x="-4680" y="4952880"/>
            <a:chExt cx="12196800" cy="1911600"/>
          </a:xfrm>
        </p:grpSpPr>
        <p:sp>
          <p:nvSpPr>
            <p:cNvPr id="49" name="Freeform 16"/>
            <p:cNvSpPr/>
            <p:nvPr/>
          </p:nvSpPr>
          <p:spPr>
            <a:xfrm>
              <a:off x="2255040" y="4952880"/>
              <a:ext cx="9930960" cy="486720"/>
            </a:xfrm>
            <a:custGeom>
              <a:avLst/>
              <a:gdLst>
                <a:gd name="textAreaLeft" fmla="*/ 0 w 9930960"/>
                <a:gd name="textAreaRight" fmla="*/ 9931320 w 9930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54360" y="5236560"/>
              <a:ext cx="12131640" cy="786240"/>
            </a:xfrm>
            <a:custGeom>
              <a:avLst/>
              <a:gdLst>
                <a:gd name="textAreaLeft" fmla="*/ 0 w 12131640"/>
                <a:gd name="textAreaRight" fmla="*/ 12132000 w 1213164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1080" y="4992120"/>
              <a:ext cx="12191040" cy="1872360"/>
              <a:chOff x="1080" y="4992120"/>
              <a:chExt cx="1219104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080" y="4992120"/>
                <a:ext cx="1219104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684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4680" y="4986000"/>
              <a:ext cx="1219680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1D04DA-442D-494D-B656-D9025118A8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665280" y="5945040"/>
            <a:ext cx="6588000" cy="920880"/>
          </a:xfrm>
          <a:custGeom>
            <a:avLst/>
            <a:gdLst>
              <a:gd name="textAreaLeft" fmla="*/ 0 w 6588000"/>
              <a:gd name="textAreaRight" fmla="*/ 6588360 w 65880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647640" y="5938920"/>
            <a:ext cx="4921200" cy="933480"/>
          </a:xfrm>
          <a:custGeom>
            <a:avLst/>
            <a:gdLst>
              <a:gd name="textAreaLeft" fmla="*/ 0 w 4921200"/>
              <a:gd name="textAreaRight" fmla="*/ 4921560 w 492120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4548240" cy="1092240"/>
            <a:chOff x="-12600" y="5784840"/>
            <a:chExt cx="454824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45482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69720" y="6421320"/>
              <a:ext cx="22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455472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4848120" y="3005280"/>
            <a:ext cx="244440" cy="228600"/>
          </a:xfrm>
          <a:custGeom>
            <a:avLst/>
            <a:gdLst>
              <a:gd name="textAreaLeft" fmla="*/ 0 w 244440"/>
              <a:gd name="textAreaRight" fmla="*/ 244440 w 2444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75" y="0"/>
                </a:lnTo>
                <a:lnTo>
                  <a:pt x="21600" y="10800"/>
                </a:lnTo>
                <a:lnTo>
                  <a:pt x="11475" y="21600"/>
                </a:lnTo>
                <a:lnTo>
                  <a:pt x="0" y="21600"/>
                </a:lnTo>
                <a:lnTo>
                  <a:pt x="10125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4600440" y="3005280"/>
            <a:ext cx="243000" cy="228600"/>
          </a:xfrm>
          <a:custGeom>
            <a:avLst/>
            <a:gdLst>
              <a:gd name="textAreaLeft" fmla="*/ 0 w 243000"/>
              <a:gd name="textAreaRight" fmla="*/ 243360 w 2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75" y="0"/>
                </a:lnTo>
                <a:lnTo>
                  <a:pt x="21600" y="10800"/>
                </a:lnTo>
                <a:lnTo>
                  <a:pt x="11475" y="21600"/>
                </a:lnTo>
                <a:lnTo>
                  <a:pt x="0" y="21600"/>
                </a:lnTo>
                <a:lnTo>
                  <a:pt x="10125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BEEC4-593F-4F18-A5F9-63BB17B84A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665280" y="5945040"/>
            <a:ext cx="6588000" cy="920880"/>
          </a:xfrm>
          <a:custGeom>
            <a:avLst/>
            <a:gdLst>
              <a:gd name="textAreaLeft" fmla="*/ 0 w 6588000"/>
              <a:gd name="textAreaRight" fmla="*/ 6588360 w 65880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647640" y="5938920"/>
            <a:ext cx="4921200" cy="933480"/>
          </a:xfrm>
          <a:custGeom>
            <a:avLst/>
            <a:gdLst>
              <a:gd name="textAreaLeft" fmla="*/ 0 w 4921200"/>
              <a:gd name="textAreaRight" fmla="*/ 4921560 w 492120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4548240" cy="1092240"/>
            <a:chOff x="-12600" y="5784840"/>
            <a:chExt cx="454824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45482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69720" y="6421320"/>
              <a:ext cx="22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455472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7DA669-4719-4B29-8A15-CED04DA45C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371654-3A7A-4CC5-8F54-183EB08C24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665280" y="5945040"/>
            <a:ext cx="6588000" cy="920880"/>
          </a:xfrm>
          <a:custGeom>
            <a:avLst/>
            <a:gdLst>
              <a:gd name="textAreaLeft" fmla="*/ 0 w 6588000"/>
              <a:gd name="textAreaRight" fmla="*/ 6588360 w 65880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647640" y="5938920"/>
            <a:ext cx="4921200" cy="933480"/>
          </a:xfrm>
          <a:custGeom>
            <a:avLst/>
            <a:gdLst>
              <a:gd name="textAreaLeft" fmla="*/ 0 w 4921200"/>
              <a:gd name="textAreaRight" fmla="*/ 4921560 w 492120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4548240" cy="1092240"/>
            <a:chOff x="-12600" y="5784840"/>
            <a:chExt cx="454824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45482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369720" y="6421320"/>
              <a:ext cx="22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455472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24537C-83D0-414F-8073-579C1B6DCF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0E81E-2252-451E-8828-5DE1230106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665280" y="5945040"/>
            <a:ext cx="6588000" cy="920880"/>
          </a:xfrm>
          <a:custGeom>
            <a:avLst/>
            <a:gdLst>
              <a:gd name="textAreaLeft" fmla="*/ 0 w 6588000"/>
              <a:gd name="textAreaRight" fmla="*/ 6588360 w 65880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647640" y="5938920"/>
            <a:ext cx="4921200" cy="933480"/>
          </a:xfrm>
          <a:custGeom>
            <a:avLst/>
            <a:gdLst>
              <a:gd name="textAreaLeft" fmla="*/ 0 w 4921200"/>
              <a:gd name="textAreaRight" fmla="*/ 4921560 w 492120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4548240" cy="1092240"/>
            <a:chOff x="-12600" y="5784840"/>
            <a:chExt cx="454824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45482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369720" y="6421320"/>
              <a:ext cx="22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455472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11552400" y="4987800"/>
            <a:ext cx="244440" cy="228600"/>
          </a:xfrm>
          <a:custGeom>
            <a:avLst/>
            <a:gdLst>
              <a:gd name="textAreaLeft" fmla="*/ 0 w 244440"/>
              <a:gd name="textAreaRight" fmla="*/ 244440 w 2444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75" y="0"/>
                </a:lnTo>
                <a:lnTo>
                  <a:pt x="21600" y="10800"/>
                </a:lnTo>
                <a:lnTo>
                  <a:pt x="11475" y="21600"/>
                </a:lnTo>
                <a:lnTo>
                  <a:pt x="0" y="21600"/>
                </a:lnTo>
                <a:lnTo>
                  <a:pt x="10125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11302920" y="4987800"/>
            <a:ext cx="244440" cy="228600"/>
          </a:xfrm>
          <a:custGeom>
            <a:avLst/>
            <a:gdLst>
              <a:gd name="textAreaLeft" fmla="*/ 0 w 244440"/>
              <a:gd name="textAreaRight" fmla="*/ 244440 w 2444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75" y="0"/>
                </a:lnTo>
                <a:lnTo>
                  <a:pt x="21600" y="10800"/>
                </a:lnTo>
                <a:lnTo>
                  <a:pt x="11475" y="21600"/>
                </a:lnTo>
                <a:lnTo>
                  <a:pt x="0" y="21600"/>
                </a:lnTo>
                <a:lnTo>
                  <a:pt x="10125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09480" y="14810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8969040" y="6408720"/>
            <a:ext cx="2560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5839920" y="6408720"/>
            <a:ext cx="313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11530080" y="640872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02B9F9-8FD2-4402-907E-10986F0DA9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re 1" descr=""/>
          <p:cNvPicPr/>
          <p:nvPr/>
        </p:nvPicPr>
        <p:blipFill>
          <a:blip r:embed="rId1"/>
          <a:stretch/>
        </p:blipFill>
        <p:spPr>
          <a:xfrm>
            <a:off x="1957320" y="609480"/>
            <a:ext cx="8942400" cy="24577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960200" y="3433680"/>
            <a:ext cx="8791560" cy="165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200" spc="-1" strike="noStrike">
                <a:solidFill>
                  <a:srgbClr val="464646"/>
                </a:solidFill>
                <a:latin typeface="Lucida Sans Unicode"/>
              </a:rPr>
              <a:t>STRUCTURA SECȚIUNII</a:t>
            </a:r>
            <a:endParaRPr b="0" lang="en-US" sz="6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200" spc="-1" strike="noStrike">
                <a:solidFill>
                  <a:srgbClr val="464646"/>
                </a:solidFill>
                <a:latin typeface="Lucida Sans Unicode"/>
              </a:rPr>
              <a:t>LIMBA FRANCEZĂ</a:t>
            </a:r>
            <a:endParaRPr b="0" lang="en-US" sz="6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141560" y="1712520"/>
            <a:ext cx="990576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Lucida Sans Unicode"/>
              </a:rPr>
              <a:t>CUPRINDE 16 PAGINI DE ACTIVITĂȚI ORGANIZATE ASTFEL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Test de evaluare inițială – nivel așteptat, A1 – pagina 81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Test de evaluare inițială – analiza și interpretarea rezultatelor obținute de elevi – pagina 82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Unitatea I </a:t>
            </a:r>
            <a:r>
              <a:rPr b="0" i="1" lang="ro-RO" sz="2400" spc="-1" strike="noStrike">
                <a:solidFill>
                  <a:srgbClr val="000000"/>
                </a:solidFill>
                <a:latin typeface="Lucida Sans Unicode"/>
              </a:rPr>
              <a:t>Ma famille, mes amis et ... moi </a:t>
            </a: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(de la pagina 83 la pagina 89), cuprind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 lecții – o lecție / pagină: Lecția 1 </a:t>
            </a:r>
            <a:r>
              <a:rPr b="0" i="1" lang="ro-RO" sz="2400" spc="-1" strike="noStrike">
                <a:solidFill>
                  <a:srgbClr val="000000"/>
                </a:solidFill>
                <a:latin typeface="Lucida Sans Unicode"/>
              </a:rPr>
              <a:t>Moi, je suis...</a:t>
            </a:r>
            <a:r>
              <a:rPr b="0" i="1" lang="fr-FR" sz="2400" spc="-1" strike="noStrike">
                <a:solidFill>
                  <a:srgbClr val="000000"/>
                </a:solidFill>
                <a:latin typeface="Lucida Sans Unicode"/>
              </a:rPr>
              <a:t>;</a:t>
            </a:r>
            <a:r>
              <a:rPr b="0" i="1" lang="ro-RO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Lecția 2 </a:t>
            </a:r>
            <a:r>
              <a:rPr b="0" i="1" lang="ro-RO" sz="2400" spc="-1" strike="noStrike">
                <a:solidFill>
                  <a:srgbClr val="000000"/>
                </a:solidFill>
                <a:latin typeface="Lucida Sans Unicode"/>
              </a:rPr>
              <a:t>Moi, je suis... (suite)</a:t>
            </a:r>
            <a:r>
              <a:rPr b="0" i="1" lang="fr-FR" sz="2400" spc="-1" strike="noStrike">
                <a:solidFill>
                  <a:srgbClr val="000000"/>
                </a:solidFill>
                <a:latin typeface="Lucida Sans Unicode"/>
              </a:rPr>
              <a:t>;</a:t>
            </a:r>
            <a:r>
              <a:rPr b="0" i="1" lang="ro-RO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Lecția 3 </a:t>
            </a:r>
            <a:r>
              <a:rPr b="0" i="1" lang="ro-RO" sz="2400" spc="-1" strike="noStrike">
                <a:solidFill>
                  <a:srgbClr val="000000"/>
                </a:solidFill>
                <a:latin typeface="Lucida Sans Unicode"/>
              </a:rPr>
              <a:t>J</a:t>
            </a:r>
            <a:r>
              <a:rPr b="0" i="1" lang="fr-FR" sz="2400" spc="-1" strike="noStrike">
                <a:solidFill>
                  <a:srgbClr val="000000"/>
                </a:solidFill>
                <a:latin typeface="Lucida Sans Unicode"/>
              </a:rPr>
              <a:t>’adore; </a:t>
            </a: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Lecția</a:t>
            </a: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 4 </a:t>
            </a:r>
            <a:r>
              <a:rPr b="0" i="1" lang="fr-FR" sz="2400" spc="-1" strike="noStrike">
                <a:solidFill>
                  <a:srgbClr val="000000"/>
                </a:solidFill>
                <a:latin typeface="Lucida Sans Unicode"/>
              </a:rPr>
              <a:t>Je vous présente mes ami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fr-FR" sz="2400" spc="-1" strike="noStrike">
                <a:solidFill>
                  <a:srgbClr val="000000"/>
                </a:solidFill>
                <a:latin typeface="Lucida Sans Unicode"/>
              </a:rPr>
              <a:t>Je révis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fr-FR" sz="2400" spc="-1" strike="noStrike">
                <a:solidFill>
                  <a:srgbClr val="000000"/>
                </a:solidFill>
                <a:latin typeface="Lucida Sans Unicode"/>
              </a:rPr>
              <a:t>Évalu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4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ro-RO" sz="2400" spc="-1" strike="noStrike">
                <a:solidFill>
                  <a:srgbClr val="000000"/>
                </a:solidFill>
                <a:latin typeface="Lucida Sans Unicode"/>
              </a:rPr>
              <a:t>Proiec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re 1" descr=""/>
          <p:cNvPicPr/>
          <p:nvPr/>
        </p:nvPicPr>
        <p:blipFill>
          <a:blip r:embed="rId1"/>
          <a:stretch/>
        </p:blipFill>
        <p:spPr>
          <a:xfrm>
            <a:off x="878040" y="334800"/>
            <a:ext cx="101739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1141560" y="1712520"/>
            <a:ext cx="990576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d. Unitatea a II-a 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Ma vie quotidienne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(de la pagina 90 la pagina 96), cuprinde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 lecții – o lecție / pagină: Lecția 1 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Une journ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ée de ma vie;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 2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Mes trucs pour être en forme;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 3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Quelle heure est-il?;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 4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Quel temps fait-il?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Je révise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Évaluatio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Proiec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re 1" descr=""/>
          <p:cNvPicPr/>
          <p:nvPr/>
        </p:nvPicPr>
        <p:blipFill>
          <a:blip r:embed="rId1"/>
          <a:stretch/>
        </p:blipFill>
        <p:spPr>
          <a:xfrm>
            <a:off x="878040" y="334800"/>
            <a:ext cx="101739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141560" y="1712520"/>
            <a:ext cx="990576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Lucida Sans Unicode"/>
              </a:rPr>
              <a:t>CUPRINDE 16 PAGINI DE ACTIVITĂȚI ORGANIZATE ASTFEL: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Unitatea I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Salut, les amis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(de la pagina 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97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 la pagina 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06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), cuprinde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 lecții – o lecție / pagină: Lecția 1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Salut!;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 2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Comment tu t’appelles?;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 3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Quel âge as-tu?;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 4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Les noms des couleurs;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 5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Dans mon cartable il y 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Je révise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Évaluatio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Proiec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re 1" descr=""/>
          <p:cNvPicPr/>
          <p:nvPr/>
        </p:nvPicPr>
        <p:blipFill>
          <a:blip r:embed="rId1"/>
          <a:stretch/>
        </p:blipFill>
        <p:spPr>
          <a:xfrm>
            <a:off x="878040" y="334800"/>
            <a:ext cx="101739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1141560" y="1712520"/>
            <a:ext cx="990576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b.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Unitatea 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a II-a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Moi, à l’école et en famille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(de la pagina 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07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 la pagina 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14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), cuprinde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 lecții – o lecție / pagină: Lecția 1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Mon emploi du temps;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 2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Ma famille;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 3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Je vous présente ma famille;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 4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Mes cousins en Europe; 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Lecția</a:t>
            </a: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 5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Mes activités préférée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Je révise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fr-FR" sz="2600" spc="-1" strike="noStrike">
                <a:solidFill>
                  <a:srgbClr val="000000"/>
                </a:solidFill>
                <a:latin typeface="Lucida Sans Unicode"/>
              </a:rPr>
              <a:t>Évaluatio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cida Sans Unicode"/>
              </a:rPr>
              <a:t>1 pagin</a:t>
            </a:r>
            <a:r>
              <a:rPr b="0" lang="ro-RO" sz="26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0" i="1" lang="ro-RO" sz="2600" spc="-1" strike="noStrike">
                <a:solidFill>
                  <a:srgbClr val="000000"/>
                </a:solidFill>
                <a:latin typeface="Lucida Sans Unicode"/>
              </a:rPr>
              <a:t>Proiec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re 1" descr=""/>
          <p:cNvPicPr/>
          <p:nvPr/>
        </p:nvPicPr>
        <p:blipFill>
          <a:blip r:embed="rId1"/>
          <a:stretch/>
        </p:blipFill>
        <p:spPr>
          <a:xfrm>
            <a:off x="878040" y="334800"/>
            <a:ext cx="101739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7T14:36:34Z</dcterms:created>
  <dc:creator/>
  <dc:description/>
  <dc:language>en-US</dc:language>
  <cp:lastModifiedBy>Micky</cp:lastModifiedBy>
  <dcterms:modified xsi:type="dcterms:W3CDTF">2017-09-19T11:13:02Z</dcterms:modified>
  <cp:revision>18</cp:revision>
  <dc:subject/>
  <dc:title>Elemente de noutate ale programei școlare pentru disciplina</dc:title>
</cp:coreProperties>
</file>