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BBB-92E8-48AC-916D-6ACB45E3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B98-3B59-41C4-A319-69E1BFA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999-EA2A-47B5-A11E-9FD20AFC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1B1-98B9-4FAB-953B-A157C8BB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54F8-690E-41B2-8CD8-465272B1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076A-0B95-4291-8286-73BA779B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8271-E246-439F-9198-3A90A292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CFCD-55E2-4F29-8DA5-E9B11B8B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FCD4-351A-4B50-A97F-CD3EEB00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78C7-4BE9-4E27-AC45-B0779811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D02D-B846-4A61-AB4C-D8F41DF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453-16B7-4CD2-A666-3F3B6401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950D-DA75-426D-A1B3-1F28D3FD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6735-356D-49A5-899C-B433C233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ED5A-206E-40C3-8478-C399B06C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5797-B72E-4041-A94D-6895F49F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DCFA-1E92-4463-A80F-B7D393F0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D0DE4-2E5B-48F6-8C0C-43808E23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37A2-F494-4BA6-A7E2-F92E6DDD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0A01-6FDA-43FC-B393-4FF6A8C6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6EC4-7001-4F06-93FF-52FF4D1F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52D89-BAED-43ED-B223-76AE412E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2A4-5A19-4144-9442-93775F77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92BA-F52E-479D-BA3C-4609BEE7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C6C0-ABE9-4DB2-A144-86A34558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193A-F83A-4BCC-B071-31B7AE9C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BBB18-9C99-4775-8452-82A65122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8C47-981B-40F7-AE94-14E4436C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98F6-3A1E-4491-BA4E-D84A8781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7D78-6811-42B7-BA67-1D7F5C12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1A8-FA38-47F1-88F2-21947ED3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CE3-1E2C-4F3B-B64C-232D9E88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6FC-4B0F-401C-AEAF-677B2372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F5B-3A7A-44D7-8E0B-CB91B35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D76-E488-4993-9A34-B38F005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DF6-9BDE-4261-854C-A60287C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11357280" y="0"/>
              <a:ext cx="68220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4B017-4AED-4D8A-9AEA-E1E57E4B0C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10" descr=""/>
          <p:cNvPicPr/>
          <p:nvPr/>
        </p:nvPicPr>
        <p:blipFill>
          <a:blip r:embed="rId4"/>
          <a:stretch/>
        </p:blipFill>
        <p:spPr>
          <a:xfrm>
            <a:off x="-6480" y="-6480"/>
            <a:ext cx="231156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A34FF-6EA3-437A-AEA5-44EFD77315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11357280" y="0"/>
              <a:ext cx="68220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739F3-17C5-4FBB-8054-734B55978E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60200" y="669960"/>
            <a:ext cx="8791560" cy="17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ELEMENTE DE NOUTATE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ALE PROGRAMEI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Ş</a:t>
            </a: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COLARE </a:t>
            </a: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Arial Black"/>
              </a:rPr>
              <a:t>PENTRU DISCIPL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60200" y="2808360"/>
            <a:ext cx="879156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1 – STUDIU INTENS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LIMBA MODERNĂ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Times New Roman"/>
              </a:rPr>
              <a:t>FRANCEZĂ / SPANIOLĂ / ITALIAN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2) PRECIZAREA NIVELURILOR DIN CECRL LA INTRAREA ELEVILOR ÎN CICLUL DE ÎNVĂȚĂMÂNT GIMNAZIAL, PRECUM ȘI A NIVELURILOR AȘTEPTATE LA FINALUL CICLULUI GIMNAZIAL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1560" y="2451240"/>
          <a:ext cx="9905760" cy="411480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  <a:gridCol w="3301920"/>
              </a:tblGrid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8720" y="914040"/>
            <a:ext cx="9906120" cy="19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TALIEREA FIEC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OMPETEN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GE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L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ÎN COMPETENȚE SPECIFICE, ULTIMA COMPETENȚĂ SPECIFICĂ FIIND DE NATURĂ SOCIO-CULTURAL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1141560" y="3446640"/>
            <a:ext cx="99057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) PREZENTAREA DETALIATĂ A RECOMANDĂRILOR ȘI A SUGESTIILOR METODOLOGICE, PRECUM ȘI A STRATEGIILOR DE PRED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1301760" y="428760"/>
            <a:ext cx="99061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EZENTAREA DE EXEMPLE SPECIFICE FIECĂREI LIMBI, PREZENTAREA DE TEME RECOMANDATE CE EVOLUEAZĂ PROGRESIV DE LA O CLASĂ LA AL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1301760" y="209880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ZENTAREA DE TEME DE PROIECT INTRODUSE PROGRESIV DE LA UN NIVEL LA ALT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1239840" y="3801960"/>
            <a:ext cx="103647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AREA GRAMATICII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UNCȚ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TR-O DUBLĂ PERSPECTIV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EE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TELOR DE VORBIRE / A FUNCȚIILOR LIMB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rebuchet MS"/>
              </a:rPr>
              <a:t>ACEEA A ELEMENTELOR DE CONSTRUCȚIE A COMUNICĂRII CE CONTRIBUIE LA REALIZAREA DIVERSELOR ACTE DE VORB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tre 1"/>
          <p:cNvSpPr/>
          <p:nvPr/>
        </p:nvSpPr>
        <p:spPr>
          <a:xfrm>
            <a:off x="1100160" y="412920"/>
            <a:ext cx="99061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EZENTAREA DESCRIPTIVĂ, ÎN ANEXĂ, A ELEMENTELOR DE CONSTRUCȚIE A COMUNICĂRII SPECIFICE FIECĂREI CLASE / NI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1168560" y="2286000"/>
            <a:ext cx="99057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DICAREA RESURSELOR ON LINE UTILE PARCURGERII PROGRAM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1130400" y="4043520"/>
            <a:ext cx="987588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10) CORELAREA PROGRAMELOR ȘCOLARE PENTRU LIMBI MODERN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FRANCEZ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SPANIOL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TALIAN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 CU NIVELURILE DIN CECRL, PRECUM ȘI CU INSTRUMENTELE CONEXE, PRECUM REFERENȚIALUL PENTRU CECRL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LIMBA FRANCEZ</a:t>
            </a: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Ă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/>
  <dc:description/>
  <dc:language>en-US</dc:language>
  <cp:lastModifiedBy>Micky</cp:lastModifiedBy>
  <dcterms:modified xsi:type="dcterms:W3CDTF">2017-09-17T19:36:40Z</dcterms:modified>
  <cp:revision>18</cp:revision>
  <dc:subject/>
  <dc:title>Elemente de noutate ale programei școlare pentru disciplina</dc:title>
</cp:coreProperties>
</file>