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742-C593-459B-A220-34EC3C28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2BA-B1E0-468C-A57A-859D7B5A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6EC-7DCB-480E-BAB1-03860DEE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ECF-3256-4350-95C8-7EEB81BB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1796-14E6-43CE-A128-81680AA0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8DF-0AE7-4A2A-9AA3-9E33CFD1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8B5D-2074-40DC-8607-FD16FD15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603A-3481-4EED-8DD3-F9BECC5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7284-9CDE-442A-A3D0-A4C88F0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64A6-AA4A-4550-BCB9-F40700AE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6C7A-B78C-442D-B650-D9385F1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857-3F3B-4B50-BA66-853BD08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7EDE-FBFC-41F9-AB75-1F127BB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39CF-6789-4E21-BA0D-DD96388D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F7F-1B11-47E7-A17F-5D02208C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295-9E38-4B96-95AA-C627E979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14AA-AC95-425A-927D-6E7ABD53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2879-DBE7-4ABD-B9EA-CAFB36AF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44EA-75CF-45F9-939A-DF721627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BD89-9204-45E0-AAB1-28974A8B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AC94-ABA3-46DF-A849-7329718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293A-B79E-4079-9FC7-A722BF85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C65-C0A6-481D-8E30-60CF0BD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7CDC-54D7-4429-866B-5FCA500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B5D9-B3FC-409D-B2D9-EA5B09F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E4FC-012A-4DDF-A690-890A38C6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3EA0-DA94-46FB-AEB5-ED91005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D709-C763-41D8-B136-5956A21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CC73-944F-4257-B088-3F32E44F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CDB6-FCF1-4061-B18B-66A20412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A7BC-0221-4AF3-AEC9-786C2773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21108-F1CA-439B-82C8-BE0D7909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A252-92D3-4B33-8F50-7E760B41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8BC-C05C-460F-9097-25C7496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707E-2DFB-47D0-A55C-47CFD785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260B-61D7-4614-9F63-689BD93D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7F48-D697-4FBD-BDE3-A0C7800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09D8-0FFA-4205-8865-9C12F34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5368-5273-4956-A862-7640D78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B4928-04BA-4E06-A39B-3C8F256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7272-0702-4AD1-A3AC-5CF36FA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99E8-C499-4A1F-98FC-E55B59EA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BFFE-1293-449B-9154-508862C3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C31BC-1FDD-400C-8641-AB1610ED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A47-30FB-4EBE-AB99-2748689B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E06C-A15A-4EA4-AFB1-BA63C7CE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D583-F4CE-48BF-8246-65A70D8A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3E15-54EC-4678-9301-D0468D09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B37D-AACB-4A6F-A95D-7312BCA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B695-BD3A-4C87-93D8-554A2CFB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9C99D-0874-44AE-8F75-19EFFF5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4D5C-273B-4EB6-9A68-7C7DF07A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5317-DFDB-440E-9B90-5B9C70BD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254B-8B11-429F-9D00-DBEFF0F8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7832D-EC47-4012-834A-7244DC31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ED1-A1F4-46DB-9897-92046DC1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569E-E936-4D65-84DE-C724955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AE96A-C03E-452D-B670-BF843793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1662-5337-4B84-936A-9F009CE4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77DDD-8707-4F69-85AE-89FDB1C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3447E-1F85-4082-BBDE-E3B2846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377CB-9340-407C-893D-41294441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B8632-7934-449E-B9A4-F74609B3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1E5A-ED8A-4DB3-8B45-C828F084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D6F44-F7C2-4D60-81E6-0164BF0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E552-9415-4558-A5CC-869913CB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55D-D531-4CBF-862F-298F19C6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E8489-C7F8-4E00-8F86-407C9518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CD5AD-344F-4165-9239-C124CD26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3BA9-6856-498D-95D7-309D5712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276A7-229F-4626-9E55-DA8A41D6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EB94E-2085-47DF-AD7D-30DAF46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AA5AF-8930-490D-8378-9BF3D41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0D32B-3ED3-45F5-B197-2AC29D7B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02F5C-A689-49B3-80C0-F0157BF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8AC5-FC75-45B6-8532-B674BB9D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D7844-77F0-4425-A237-C2AECA89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F94-61CC-47E0-A85D-1C92E5BC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7F75-15AE-4703-9397-036C43B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F2F6-5444-4662-BC96-665896D9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526C8-549E-4814-A987-CE59B5EB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A238A-E679-4E76-AF66-A312569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C9DEA-6979-4537-81C6-7DFA8D87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A853-54AA-4A66-9B8B-C8D848C1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5A95-E511-4D51-A353-73862301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9880-D163-4F46-B5E7-3A25D2A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BF975-DC57-410E-83CE-41CD692F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4363-6E19-4C42-B362-3C0956EB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D9E-90FC-4D96-92CF-38692BC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3BBC2-2933-4AF2-811E-C47E4025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0AD2F-EFB7-4F64-86B8-DF5632D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88428-5070-464D-88AB-41191D43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60F6-DA37-45B1-B7CD-1C582A2C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69DE0-3057-4FC6-9821-73619D60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687C4-2BA3-470E-A9D8-4E8C123F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0E050-010C-4829-944D-9180352A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86C5-7518-4025-A086-1251A625B636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4287-529C-423D-B475-36DDFFE02ADD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A7D4-D8BE-42C4-B466-3E5BD868314D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CDC-FFEC-4B0D-8194-7FFF440E15C5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7CE-3420-4DDF-AFB0-9506BDBA6421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A58E-2A21-4E49-BEE9-60196B3F16F7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BFAC-D8BE-4440-A002-34ABD5E84582}" type="slidenum">
              <a:rPr b="0" lang="de-A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9036-763A-4B32-8848-579606E80B0C}" type="slidenum">
              <a:rPr b="0" lang="de-A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53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00000"/>
                </a:solidFill>
                <a:latin typeface="Tw Cen MT"/>
              </a:rPr>
              <a:t>LIMBI MODER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Image result for limbi moderne"/>
          <p:cNvPicPr/>
          <p:nvPr/>
        </p:nvPicPr>
        <p:blipFill>
          <a:blip r:embed="rId2"/>
          <a:stretch/>
        </p:blipFill>
        <p:spPr>
          <a:xfrm>
            <a:off x="324000" y="333360"/>
            <a:ext cx="361944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PRIN FUNCȚIA COMUNICATIV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RIENTAREA ȘI EVALUAREA REACȚIEI VERBALE/NON-VER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REA FAPTELOR, IDEI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BINAREA FAPTELOR, IDE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ULAREA UNUI RĂSPU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81160" y="274680"/>
            <a:ext cx="8424720" cy="1206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APTAREA STRATEGIEI LA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ÎN SCOPUL COMUNICĂR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ECVAREA SITUAȚIEI DE COMUNICARE ȘI CONTEXTUALIZAREA COMUNICĂRI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ALIZAREA STRATEGIILOR DIDACTICE (PREDARE – EVALUARE) PENTRU OBȚINEREA ACHIZIȚIILOR DE CUNOAȘTERE</a:t>
            </a: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NȚINUTULUI CU COMPETENȚ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LAȚIONAREA COMPETENȚELOR CU  FUNCȚIILE COMUNICĂRII ȘI ELEMENTELE DE CONSTRUCȚIE A ACESTO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VIZIBILITATEA PROGRESIEI COMPETENȚEI PRIN VALORIFICAREA CONȚINUTULUI ȘI ADECVAREA ACTIVITĂȚILOR DE PREDARE - ÎNVĂȚARE – EVALUARE</a:t>
            </a:r>
            <a:r>
              <a:rPr b="0" lang="ro-RO" sz="1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LORIFICAREA ȘI RELAȚIONAREA CUNOȘTINȚELOR ȘI ACHIZIȚIILOR CULTURALE ALE ELEVILOR CU PROCESUL ÎNVĂȚĂRII-EVALUĂ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CTIVITĂȚI DE ÎNVĂȚARE APLICATE, ACTUALIZATE, RACORDATE LA CULTURA ȘI INTERESELE COGNITIVE A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OR, PRIN CARE SE STIMULEAZĂ CREATIVITATEA ȘI EXPRIMAREA OPINIEI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FERIREA DE EXEMPLE DE ACTIVITĂȚI DE ÎNVĂȚARE ȘI EVALUARE CENTRATE PE COMPETENȚE MU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INSTRUMENTELOR DE INFORMARE MODERNE FOLOSITE FRECVENT DE GENERAȚIA ACTUAL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00000" y="1447560"/>
            <a:ext cx="7786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AREA ACESTORA ASTFEL ÎNCÂT SĂ ABORDEZE NEVOILE DE ÎNVĂȚARE ALE ELEVI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Ă ÎNCURAJEZE ȘI SĂ MOTIVEZE ELEVII PENTRU A ÎȘI EXERSA COMPETENȚELE ȘI UTILIZA CUNOȘTINȚE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Ă REFLECTE ACHIZIȚIA ȘI CAPACITATEA ELEVILOR DE A UTILIZA CUNOȘTINȚELE ÎN CONTEXTE N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ALORIFICAREA FEEDBACK-ULUI OFERIT DE ACESTEA ATÂT ASUPRA PERFORMANȚEI DIDACTICE, CÂT ȘI ASUPRA PROGRESULUI ELEVIL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0000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LABORAREA PROGRAMELOR PENTRU LIMBI MODERNE CONFORM </a:t>
            </a: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ECOMANDĂRII PARLAMENTULUI EUROPEAN VIZÂND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OMPETENŢELE CHEIE DE ÎNVĂȚARE PE TOT PARCURSUL VIEȚII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ȘI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ro-RO" sz="2800" spc="-1" strike="noStrike">
                <a:solidFill>
                  <a:srgbClr val="ff0000"/>
                </a:solidFill>
                <a:latin typeface="Arial"/>
              </a:rPr>
              <a:t>CADRULUI EUROPEAN COMUN DE REFERINŢĂ PENTRU LIMBI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ÎN CEEA CE PRIVEȘTE NIVELURILE LINGVISTICE DE REFERINȚ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2520" y="244440"/>
            <a:ext cx="8802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PROGRAMELOR PENTRU LIMBI MODERNE LA DEZVOL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REA COMPETENȚELOR CHEIE PRIN RELAȚIONAREA CELOR LINGVISTICE CU CELE SOCIALE, CIVICE, DIGITALE ȘI DE SENSIBILIZARE ȘI EXPRIMARE CULTURAL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APORTUL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PROGRAMELOR PENTRU LIMBI MODERNE  LA DEZVOLTAREA COMPETENȚELOR CARE SPRIJINĂ INTEGRAREA TINERILOR ÎN EPOCA GLOBALIZĂRII PRIN RACORDAREA LA INSTRUMENTELE DE COMUNICARE TIPICE PENTRU SOCIETATEA CONTEMPORANĂ ȘI FACILITARE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NTRIBUȚIA PROGRAMELOR PENTRU LIMBI MODERNE LA CREAREA UNUI MEDIU DE ÎNVĂȚARE FACTUAL,  MOTIVANT PENTRU STUDIU ȘI DE CONTEXT SEMNIFICATIV PENTRU TINERII DE 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FLEXIBILITATE ȘI INOVARE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– PROGRAMA DE LIMBA MODERNĂ 1/ LIMBA MODERNĂ 2/ LIMBA MODERNĂ 1 – STUDIU INTENSIV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Arial"/>
              </a:rPr>
              <a:t>PROGRAMA PENTRU LIMBA MODERNĂ 1  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IGURĂ PROGRESIA ACCELERATĂ A ACHIZIȚIEI DE COMUNICARE (CONFORM </a:t>
            </a:r>
            <a:r>
              <a:rPr b="0" i="1" lang="ro-RO" sz="2700" spc="-1" strike="noStrike">
                <a:solidFill>
                  <a:srgbClr val="000000"/>
                </a:solidFill>
                <a:latin typeface="Arial"/>
              </a:rPr>
              <a:t>PRECIZĂRILOR </a:t>
            </a:r>
            <a:r>
              <a:rPr b="0" i="1" lang="ro-RO" sz="2700" spc="-1" strike="noStrike">
                <a:solidFill>
                  <a:srgbClr val="ff0000"/>
                </a:solidFill>
                <a:latin typeface="Arial"/>
              </a:rPr>
              <a:t>44961</a:t>
            </a:r>
            <a:r>
              <a:rPr b="0" lang="ro-RO" sz="2700" spc="-1" strike="noStrike">
                <a:solidFill>
                  <a:srgbClr val="ff0000"/>
                </a:solidFill>
                <a:latin typeface="Arial"/>
              </a:rPr>
              <a:t>/25.10.2016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) DE LA NIVELUL A1 (STRUCTURAT LA FINALUL ÎNVĂȚĂMÂNTULUI PRIMAR) PÂNĂ LA B1 (LA FINALUL GIMNAZIULUI</a:t>
            </a:r>
            <a:r>
              <a:rPr b="0" lang="ro-RO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676440" y="255600"/>
            <a:ext cx="800388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920" y="1557360"/>
            <a:ext cx="806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RUCTURAREA PROGRAMELOR PE DEZVOLTAREA ȘI EXERSAREA COMPETENȚE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ULAREA COMPETENȚELOR SPECIFICE CONFORM DESCRIPTORILOR AFERENȚI FIECĂRUI NIVEL LINGVISTIC DE REFERINȚĂ ȘI EVIDENȚIEREA PROGRESIEI DE LA UN NIVEL LA ALTUL A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INTERDISCIPLINAR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BORDAREA PROCESULUI PREDĂRII – ÎNVĂȚĂRII ÎNTR-O MANIERĂ INTEGRATĂ: PORNIND DE LA SITUAȚII ȘI CONTEXTE FAPTICE DE ÎNVĂȚARE CARE RELAȚIONEAZĂ COMPETENȚA CU FUNCȚIILE ȘI ELEMENTELE DE CONSTRUCȚIE A COMUNICĂRI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SOCIEREA EXPLICITĂ A FUNCȚIILOR COMUNICĂRII CU ELEMENTELE DE CONSTRUCȚIE A ACESTO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24000" y="1052640"/>
            <a:ext cx="88200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DETERMINAREA UTILIZĂRII METODELOR DE PREDARE- EVALUARE CENTRATE PE GÂNDIREA CRITICĂ,  DISCRIMINATIVĂ, CREATIVĂ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PREPONDERENȚA ÎNVĂȚĂRII DE TIP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LEARNING BY DOING</a:t>
            </a: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APPRENTISSAGE </a:t>
            </a:r>
            <a:r>
              <a:rPr b="0" i="1" lang="ro-RO" sz="2300" spc="-1" strike="noStrike">
                <a:solidFill>
                  <a:srgbClr val="000000"/>
                </a:solidFill>
                <a:latin typeface="Arial"/>
              </a:rPr>
              <a:t>EN FAIS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Arial"/>
              </a:rPr>
              <a:t>STIMULAREA IMPLICĂRII ELEVILOR ÎN ACTUALIZAREA PERMANENETĂ A CUNOȘTINȚELOR, PRIN VALORIFICAREA LIMBILOR MODERNE CA MODALITATE DE DESCOPERIRE ȘI TRANSMITERE A INFORMAȚIILOR DE ULTIMĂ ORĂ DIN DIVERSE DOMENII ALE VIEȚII SOC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84614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06:23:42Z</dcterms:created>
  <dc:creator>Cismaru, Mihai</dc:creator>
  <dc:description/>
  <dc:language>en-US</dc:language>
  <cp:lastModifiedBy>Micky</cp:lastModifiedBy>
  <dcterms:modified xsi:type="dcterms:W3CDTF">2017-09-17T19:31:14Z</dcterms:modified>
  <cp:revision>29</cp:revision>
  <dc:subject/>
  <dc:title>NOUL CONCEPT al programelor școlare</dc:title>
</cp:coreProperties>
</file>