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5BC-20A0-4654-BACE-7D505D2B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142-8A21-428D-AD93-D4B87713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4ED-FA2C-404F-9EA4-ABFD1512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0542-D44B-4751-9D37-B3B75A0D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858B-3706-4896-B077-0AE41096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C539-5DFB-4BAC-8E91-CF52B69D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DD4C-B6A7-4FB3-BBCD-BFAF3100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F8A8-5202-4147-A35D-A30FFCDE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4ABA-2CD3-491C-B14A-04417410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137B-C8CC-48DF-9791-4444D70D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C6B8-4E18-431E-92E5-5EFB50B0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953-E535-42B7-A1A0-D5510491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8218-1A55-4890-A6A1-662C0098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140F-A6B6-421C-AC63-E9D57F42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E5B1-89DC-4D0F-A6D6-15242869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C3F5-7724-4C3B-80A9-4CB106B8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69A2-BDAB-4E08-90DC-3FE47426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13736-7801-4343-AB60-C6BC6D40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4AB4F-3DBD-49D1-80F5-D623C941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B320C-856C-4A7D-8FFB-5F68B56A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1D7E6-F885-45C8-A653-22DBFF35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4710-D3F0-4699-B716-5384E823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590-4513-4C43-9092-751F238A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F0F1-D058-486C-A222-A3EAE753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83280-A303-4CE5-902B-65FDFBB1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2464F-5322-4EC3-BC99-44774FDE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70FD-9F46-41E8-9D4B-3A5792D9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4B70-FA11-4CA2-9BDF-173FC465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30C98-220E-43CB-B09B-A0962112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C633-7F59-4F5D-BD27-FC8BC5B8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D7A16-3941-4C41-A0CC-D1087699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F0DC4-37C1-4E35-A7DB-67A0946F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8AB4A-2525-48AD-94CB-0B87D459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6F1-CCFF-4F5D-92AD-91854401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80DA5-655D-43D3-90CA-62EA4A4F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1F1B1-6876-4C50-B02E-C0D78113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0111F-24A2-44A7-8CD5-A4D6E8A3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BFB52-8C27-4AB4-B394-7FFD11A8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38D77-737C-4C44-8A58-FE8AFA29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DD020-6FC7-41CA-BAA0-9E4CE949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04442-63D3-4CCE-B4D9-4E98D8A7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19857-96C7-4874-9DD7-14AFE338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C7446-39F5-476B-9DE5-141EEB69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DE494-192D-4637-BA0D-9A7A11A8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861-2CEF-42C9-9EFA-B18C8130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3F962-B352-4893-BB13-E30A2353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FCECB-40DA-4887-9A7E-2C3BF837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3F978-990B-4AC7-B954-B7088283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8DC82-64E4-4C5A-B06C-F2905AFD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B17C4-06EC-4C88-A11E-AB1B7817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8A60C-5AE7-470E-96BB-E41351BA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28233-A970-4233-9493-FEA8FA0B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BA68A-EB47-421A-AE2D-5E2156DF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CC559-7A51-47E8-BFB8-F2C5C9E9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3343C-1BD5-4213-A1F2-867E1A6C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295-FA06-4F3D-8248-2BB79617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96A24-2F0C-434E-83A6-17F9D663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3E887-94DF-4DCC-8B35-F55B2480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11480-16C8-4E8E-B163-FE034B5D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A6716-998E-4D35-9AD3-3275137D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7BD68-8536-47F5-83AA-C9FE9F4C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9569B-1DE3-4E76-BAF1-A41AC509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A5825-A9AE-46E9-A41B-001714F0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E788F-D4CC-44DC-86DD-C00EF14C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8EFD3-ED03-4F97-921A-23FCE132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9F398-7808-4AA0-B1E4-0DE65968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542-21A3-47D9-B51B-6FDA268C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7442C-3DF0-47BC-8BD3-0491AF64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46828-C3E0-402F-9A46-9F335B21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58B76-563B-4655-A67F-A310FA9A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30685-9F77-4869-AF8A-2212E5FC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E13FB-7847-462B-95F2-C0CD66F0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0D266-DE66-42F5-8BF1-395941AC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7867E-4CF5-42B1-A9FF-D7FF8AD4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B2477-B093-43E7-943B-5648B546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FEC86-705E-4543-92A9-231E7AA2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DED7D-9ED1-4E09-8485-0E7DFD31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280-D4BB-4D9A-B921-B201498E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BE11E-A61A-4F78-B568-D3401E58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951D7-61D6-4607-BF7B-0F4AA73C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4C05A-2A7C-4823-8987-3BE57D14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0BA28-1089-48E4-805D-21780655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54B87-E93F-4687-88CF-2C81E357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185DB-F603-4449-8096-3E56BD23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47B6F-8EF1-467F-A16C-E221973B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25D2D-3067-4C6C-97A2-101CBAEA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00F6E-B944-4A56-9C09-B0823025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B8612-0A4F-4ED7-BE91-7B97EC35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CE79-2B77-4908-A7DA-74E9DE3D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B0869-B553-4B0E-8051-F7590AE9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29941-D500-491E-B646-0BF69D3C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9B9E4-12A8-485E-9CC7-50C74075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B40FE-6440-47A4-9434-57936C4C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54A23-3E88-47D9-B6C7-979D9AB6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82D56-2257-4FAD-96F5-6F44FFD0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F5B2F-C680-48CE-87AE-CC3E3FAB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994F-33B8-4B34-AE87-9E040F4104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58B5-8226-41E3-9D57-41B355ACD4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90D5-CA14-4DBC-BE99-819EF80366E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7898-02D9-440D-A2EC-4C4ABCA18F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7D49-8773-470A-987F-C4D6A40C4EF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213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14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216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AA8B-E96E-473F-880C-9E886C1BEAF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D363-A150-4C4A-9736-3090AC21158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06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07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3485-C795-47CD-B0D0-FEDE36E56F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Users/GEELOO/AppData/Local/Temp/Temp1_Portofolii.zip/fisa%20postului.doc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600200" y="43430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LATIN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Arial"/>
              </a:rPr>
              <a:t>5</a:t>
            </a:r>
            <a:r>
              <a:rPr b="1" lang="ro-RO" sz="2800" spc="-1" strike="noStrike">
                <a:solidFill>
                  <a:srgbClr val="696464"/>
                </a:solidFill>
                <a:latin typeface="Perpetua"/>
              </a:rPr>
              <a:t>-</a:t>
            </a:r>
            <a:r>
              <a:rPr b="1" lang="ro-RO" sz="2800" spc="-1" strike="noStrike">
                <a:solidFill>
                  <a:srgbClr val="696464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1" lang="ro-RO" sz="2800" spc="-1" strike="noStrike">
                <a:solidFill>
                  <a:srgbClr val="696464"/>
                </a:solidFill>
                <a:latin typeface="Perpetua"/>
              </a:rPr>
              <a:t>SEPTEMBRIE 201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64F2-AF32-4B66-A70D-F85FC43FFD1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2f2f2"/>
                </a:solidFill>
                <a:latin typeface="Franklin Gothic Book"/>
              </a:rPr>
              <a:t>CONSFĂTUIRILE NAŢIONALE </a:t>
            </a:r>
            <a:br>
              <a:rPr sz="2800"/>
            </a:br>
            <a:r>
              <a:rPr b="0" lang="ro-RO" sz="2800" spc="-1" strike="noStrike">
                <a:solidFill>
                  <a:srgbClr val="f2f2f2"/>
                </a:solidFill>
                <a:latin typeface="Franklin Gothic Book"/>
              </a:rPr>
              <a:t>ALE INSPECTORILOR </a:t>
            </a:r>
            <a:r>
              <a:rPr b="0" lang="en-US" sz="2800" spc="-1" strike="noStrike">
                <a:solidFill>
                  <a:srgbClr val="f2f2f2"/>
                </a:solidFill>
                <a:latin typeface="Franklin Gothic Book"/>
              </a:rPr>
              <a:t> </a:t>
            </a:r>
            <a:r>
              <a:rPr b="0" lang="ro-RO" sz="2800" spc="-1" strike="noStrike">
                <a:solidFill>
                  <a:srgbClr val="f2f2f2"/>
                </a:solidFill>
                <a:latin typeface="Franklin Gothic Book"/>
              </a:rPr>
              <a:t>ȘCOLARI </a:t>
            </a:r>
            <a:br>
              <a:rPr sz="2800"/>
            </a:br>
            <a:r>
              <a:rPr b="0" lang="ro-RO" sz="2800" spc="-1" strike="noStrike">
                <a:solidFill>
                  <a:srgbClr val="f2f2f2"/>
                </a:solidFill>
                <a:latin typeface="Arial"/>
              </a:rPr>
              <a:t>PENTRU</a:t>
            </a:r>
            <a:br>
              <a:rPr sz="2800"/>
            </a:br>
            <a:r>
              <a:rPr b="0" lang="en-US" sz="2800" spc="-1" strike="noStrike">
                <a:solidFill>
                  <a:srgbClr val="f2f2f2"/>
                </a:solidFill>
                <a:latin typeface="Franklin Gothic Book"/>
              </a:rPr>
              <a:t>LIMBI MODERN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de activităţi metodico-ştiinţifice ale catedrei pentru anul școlar  în curs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le şcolare valabile în anul şcolar în curs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le pentru examenele naţionale (bacalaureat) şi concursurile şcolare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ificări le calendaristice ale membrilor catedrei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rile 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dru pentru anul şcolar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spectiv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abel  nominal cu membrii catedrei şi datele lor personale (telefon, adresa de e-mail, şcoala de provenienţă, grad didactic, specialitatea, vechimea în învăţământ etc.)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managerial al catedrei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şi tematica activităţilor de catedră.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cesele – verbale ale şedinţelor de catedră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aterialele ştiinţifice şi metodice prezentate în cadrul activităţilor de catedră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olimpiadelor şi concursurilor şcolare la care participă elevii unității de învățămâ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Perpetua"/>
              </a:rPr>
              <a:t>PORTOFOLIUL </a:t>
            </a:r>
            <a:r>
              <a:rPr b="1" lang="en-US" sz="4400" spc="-1" strike="noStrike">
                <a:solidFill>
                  <a:srgbClr val="000000"/>
                </a:solidFill>
                <a:latin typeface="Perpetua"/>
              </a:rPr>
              <a:t>RESPONSABILULUI</a:t>
            </a:r>
            <a:r>
              <a:rPr b="1" lang="ro-RO" sz="4400" spc="-1" strike="noStrike">
                <a:solidFill>
                  <a:srgbClr val="000000"/>
                </a:solidFill>
                <a:latin typeface="Perpetua"/>
              </a:rPr>
              <a:t> DE CERC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şcolilor arondate cercului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de activități al şefului cercului metodic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ematica şedinţelor de cerc, data şi locul de desfăşur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cesele -verbale încheiate la activităţile de cer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aterialele ştiinţifice şi metodice prezentate în cadrul activităţilor de cerc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examenelor naţionale (evaluare – clasa a VI-a, bacalaureat), al olimpiadelor şi al concursurilor şcolare din anul școlar respectiv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7BD8-CBE0-49DC-BD3F-6B8BFA2DCF4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rpetua"/>
              </a:rPr>
              <a:t>PORTOFOLIUL PROFESORULUI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ubstituent număr diapozitiv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FF9F-14A6-4DE8-9C15-7C082D04F9D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I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: structura anului școlar, încadrarea (clase, nr. de ore), orarul, fișa postului, calendarul activităților pe anul în cu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I-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: programele școlare, programele opționalelor în derulare, planificarea anuală și semestrială a materiei pe unități de învățare, proiecte didactice, teste de evaluare inițială, curentă și sumativă-concluzii, modalități alternative de evaluare (proiecte, referate, portofolii întocmite de elevi), fișe de lucru, caietul –catalog, inventarul materialului didactic din școală, fișe cu asistențe la ore (pentru profesorii debutanți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CC9A-770E-42EF-944E-B81EA5450B0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II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regulamentul, precizările și programele pentru olimpiada națională școlară la disciplina..., subiecte de olimpiadă propuse, lista elevilor selectați pentru olimpiade, rezultatele obținute la diferite competiții/activități specifice discipline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V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 Proiecte personale sau proiecte/programe în care este angajat pentru implementar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V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perfecțion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/formare în domeniul discipline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VI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materiale didactice –produse proprii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7DEB-9868-4B78-90F5-E77A08A8764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Perpetua"/>
              </a:rPr>
              <a:t>PORTOFOLIUL ELEVULUI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696464"/>
                </a:solidFill>
                <a:uFillTx/>
                <a:latin typeface="Franklin Gothic Book"/>
              </a:rPr>
              <a:t>PORTOFOLIUL ELEVULU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 Narrow"/>
              </a:rPr>
              <a:t>Portofoliul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prezintă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“acord”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între elev şi profesorul care trebuie să-l ajute pe elev să se autoevalueze. Profesorul discută cu elevul despre ce trebuie să ştie şi ce trebuie să facă acesta de-a lungul procesului de învăţare. La începutul demersului educativ se realizează un diagnostic asupra necesităţilor de învăţare ale elevului pentru a stabili obiectivele şi criteriile de evaluare. Diagnosticul este făcut de profesor şi este discutat cu elevul implicat în evaluar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96464"/>
                </a:solidFill>
                <a:latin typeface="Arial Narrow"/>
              </a:rPr>
              <a:t>Portofoliul cuprinde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440" y="1523520"/>
            <a:ext cx="8001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conţinutului acestui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(sumarul, care include titlul fiecărei lucrări/fişe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etc. şi numărul paginii la care se găseşte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argumentaţia care explică ce lucrări sunt incluse în portofoliu, de ce este importantă fiecare şi cum se articulează între ele într-o viziune de ansamblu a elevului/grupului cu privire la subiectul respectiv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ucrările pe care le face elevul individual sau în grup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rezumat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eseuri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articole, referate, comunicări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fişe individuale de studiu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iecte şi experiment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emele zilnic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probleme rezolvat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apoarte scrise – de realizare a proiectelo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teste şi lucrări semestrial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hestionare de atitudin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înregistrări, fotografii care reflectă activitatea desfăşurată de elev individual sau împreună cu colegii să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observaţii pe baza unor ghiduri de observaţi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flecţiile proprii ale elevului asupra a ceea ce lucrează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autoevaluări scrise de elev sau de membrii grupulu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interviuri de evaluar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alte materiale, hărţi cognitive, contribuţii la activitate care reflectă participarea elevului/ grupului la derularea şi soluţionarea temei dat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6995-A8FF-4ECB-A19A-0302ECB8765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erpetua"/>
              </a:rPr>
              <a:t>PORTOFOLIUL INSPECTORULUI </a:t>
            </a:r>
            <a:r>
              <a:rPr b="1" lang="ro-RO" sz="4800" spc="-1" strike="noStrike">
                <a:solidFill>
                  <a:srgbClr val="000000"/>
                </a:solidFill>
                <a:latin typeface="Perpetua"/>
              </a:rPr>
              <a:t>ȘCOLAR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PENTRU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Perpetua"/>
              </a:rPr>
              <a:t>LIMBI MODERNE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E673-4928-4D0C-BFA5-137BA71C02C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obiective viitoare pornind de la realizările curente ale elevului/grupului, pe baza intereselor şi a progreselor înregistrat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omentarii suplimentare şi evaluări ale profesorului, ale altor grupuri de învăţare şi/sau ale altor părţi interesate, de exemplu părinţi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zultate ale lucrărilor de evaluare efectuate pentru teme din domeniul profesional sau abilităţi chei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zultate ale activităţilor de autoevaluare şi dovezi ale discuţiilor care au avut lo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opiniile elevilor privind activităţile desfăşura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planuri de acţiune/ evaluări/ activităţi viitoare planificate şi efectuate de către elev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omentarii ale profesorului privind atitudinea şi rezultatele elevulu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ubstituent număr diapozitiv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870E-C62A-4F92-B8D5-069C7D899C2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SUCCES TUTURO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ÎN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 </a:t>
            </a: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ANUL ȘCOL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 </a:t>
            </a: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201</a:t>
            </a:r>
            <a:r>
              <a:rPr b="1" lang="en-US" sz="2800" spc="-1" strike="noStrike">
                <a:solidFill>
                  <a:srgbClr val="cc9900"/>
                </a:solidFill>
                <a:latin typeface="Georgia"/>
              </a:rPr>
              <a:t>7</a:t>
            </a: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-201</a:t>
            </a:r>
            <a:r>
              <a:rPr b="1" lang="en-US" sz="2800" spc="-1" strike="noStrike">
                <a:solidFill>
                  <a:srgbClr val="cc9900"/>
                </a:solidFill>
                <a:latin typeface="Georgia"/>
              </a:rPr>
              <a:t>8</a:t>
            </a: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o-RO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Structura portofoliului/mapei inspectorului școlar pentru limbi moderne -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ocumente normative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ocumente manageriale, baze date, document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specifice disciplinei: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Substituent număr diapozitiv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526C-4516-4D9C-A5EF-CA47044FDF9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Fişa postului operaţionalizată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 Narrow"/>
                <a:hlinkClick r:id="rId1"/>
              </a:rPr>
              <a:t>fisa postului.do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urriculum Vitae Europas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iagnoza disciplinei……; Starea disciplinei……, în anul şcolar….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noza, realizată de Consiliul Consultativ al profesorilor de limbi modern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 manageriale anuale şi semestrial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anual şi semestrial al inspecţiei şcolare, corelat cu Graficul unic de inspecţie şcolară al Inspectoratului Şcolar Județean..../al Municipiului București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Rapoarte periodic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lunare, semestriale, anuale (Fişa săptămânală/lunară de raportare a inspectorului şcolar de limbi moderne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ubstituent număr diapozitiv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FA9E-4658-404B-8A34-B0F1E79A9E3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onsiliul Consultativ al profesorilor de limbi moderne (componenţa şi atribuții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profesorilor metodişti şi a sarcinilor delegate (criterii de selecţie, vechime în învăţământ, gradul didactic, competenţă profesională dobândită prin studii şi activitatea didactică; CV-urile acestora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Evidenţa distribuţiei şi a realizării de cătr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fesorii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etodişti a activităţii de  inspecţie şcolară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ortofoliul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fesorilor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etodişti (conţinut şi fişa de evaluare a acestora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şefilor de catedră /comisie metodică/persoană de contact la specialitatea…..în unităţile de învăţământ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Atribuţiile cadrului didactic - şef de catedră /comisie metodică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ocumentele de proiectare, organizare şi desfăşurare a activităţii catedrelor/comisiilor metodic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ortofoliul profesorului de (specialitatea)…..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180B-1303-4A5A-AD1A-53270B01D20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cadrelor didactice - formatori naţionali şi locali; evaluatori DEL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E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SD, ÖSD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responsabililor cercurilor pedagogice; evidenţa problemelor ridicate la activităţile cercurilor pedagogic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activităţilor metodice, ştiinţifice şi de formare continuă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(axat pe obiective specifice, corect elaborate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ontribuţii personale şi de grup în cercetarea ameliorativă a problemelor specialităţi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Implicarea în acţiuni metodice şi de perfecţionare organizate cu cadrele didactice în colaborare cu diferite instituţii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Instrumente, indicatori, criterii utilizate şi acţiuni specifice desfăşurat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963E-9CD3-4B49-BC54-42BB29C54AF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533520"/>
            <a:ext cx="815328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Evaluări realizate în vederea acordării gradaţiei de merit, a participării la concursuri şi alte acţiuni similare/cursuri de formare în didactica disciplinei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Modalități de monitoritorizare și acordare consultanță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Rezultate deosebite ale cadrelor didactice şi ale elevilor în procesul de învăţare şi la concursurile şcolare; acţiuni de recompensare, ameliorare şi reglare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Lista cursurilor opţionale şi avizarea lor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Evidenţa manualelor şcolare existente în catalog la disciplina...... 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Lista membrilor ARPF/ale altor asociaţii profesionale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Fişa anuală de evaluare a inspectorului şcolar pentru limbi moderne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Calendarul examenelor naționale și al activităţilor organizate cu ocazia Zilei Europene a Limbilor (26 septembrie) şi a Francofoniei (20 martie)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Perpetua"/>
              </a:rPr>
              <a:t>PORTOFOLIUL </a:t>
            </a: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PROFESORULUI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METODIST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70B1-522A-49F7-A9D5-95DAB8C0450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izi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e numire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/ Delegaț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urriculum Vitae(Europass).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raficul de evidenţă a inspecţiilor efectuat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raficul inspecţiilor de specialitate şi tematic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iagnoza procesului de învăţământ de specialitate (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î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 sectorul/zona arondat(ă), la finele fiecărui semestru);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opie a rapoartelor de inspecţi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odele de documente de planificare şi proiect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ar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idactic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ă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a nivelul învăţământului primar, gimnazial şi liceal, după caz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gi, ordine,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H.G-uri,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ote ale M.E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.,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uvernului  privind  învăţământul preuniversit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lul formularelor tip folosite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 cadrul inspecţiil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Perpetua"/>
              </a:rPr>
              <a:t>PORTOFOLIUL </a:t>
            </a:r>
            <a:r>
              <a:rPr b="1" lang="en-US" sz="4400" spc="-1" strike="noStrike">
                <a:solidFill>
                  <a:srgbClr val="000000"/>
                </a:solidFill>
                <a:latin typeface="Perpetua"/>
              </a:rPr>
              <a:t>RESPONSABILULU</a:t>
            </a:r>
            <a:r>
              <a:rPr b="1" lang="ro-RO" sz="4400" spc="-1" strike="noStrike">
                <a:solidFill>
                  <a:srgbClr val="000000"/>
                </a:solidFill>
                <a:latin typeface="Perpetua"/>
              </a:rPr>
              <a:t>I DE CATEDRĂ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Luminita Stoian</cp:lastModifiedBy>
  <dcterms:modified xsi:type="dcterms:W3CDTF">2017-09-04T04:48:49Z</dcterms:modified>
  <cp:revision>618</cp:revision>
  <dc:subject/>
  <dc:title>Comisia Nationala de Informatica</dc:title>
</cp:coreProperties>
</file>