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D7C-B3B8-451A-8805-A54FB194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F8E-6ADD-410E-A0C8-2B19362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58E-099E-4D74-9EB6-7939858C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012-AA37-4ABA-A176-391EA1D5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6163-35CB-4177-B660-FF1D2FA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1A2-5432-4237-913F-422FF51C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8CDE-D994-4003-BB34-C5E0620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050-CB89-4340-A6B4-C35DE057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D486-FD66-4229-B747-C4F2AFF4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22A-9503-4871-84CA-DCB3707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C2B0-4613-4140-8B7E-6DA92B1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36A-3F2B-4729-B0DC-33A30B5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62BD-550A-45C4-B335-7F5085AB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AFD-9E5B-4C2B-A06F-8F1F762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75B-224D-4CBA-AAD7-259AD05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09A-F4D1-4A40-8844-595A0A82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CF3-B60A-4F1E-BEF5-60310773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1812-3C58-4068-9B3E-EE286455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0F04-A349-4482-9DF3-1A1FD9B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71D7-4F90-41CA-9A84-F8D6B70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5315-0C7B-4F7F-BC95-9190A13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9259-33D0-40F4-966D-D6229DA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EE8-8B01-4FF6-92B2-150A4EB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F865-B7C4-4F5D-AD38-D8585E6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A8C0-2FB5-4B82-B5A7-69DF5AF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384F-D4D9-4816-AF6F-1A117AC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CE2C-B840-4A44-ADCA-56FD879E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5E8D-548D-40FE-A148-A14A9A0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4C12-3F27-4ED6-A9E0-804A2402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2731-4E61-4CC5-9AD1-29DC0FA8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B2F3-1D99-4A7F-B4AB-CC6F45ED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EFBD-3C53-4AC7-94FC-8F52B71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5314-9F4C-430F-A0CF-59E0819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3F7-0D9D-4C11-B569-6ABC3D79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5A98-6907-4B99-A2B4-A8C626C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86E4-0D4F-4BFD-99F6-A06B51C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2E51-AFB8-4F42-A0AB-65ABB5F6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47FC-08A5-4711-8C80-BA17974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FFB5-1980-4888-97A2-89F3CB9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0BC0-70BC-409D-A4EE-1B20965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36F2-B332-4950-A552-C2344EB5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541D-714D-42BF-99B2-C78E4ED5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6DFE-B11F-406C-AE64-8ACCAB3C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719-0DEE-4EB8-87E7-15C9562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F39-D6CE-4198-BA3D-567615F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625-24A7-4026-AFA2-12E6745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304-0F59-40DC-BCED-52DFA63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9AB-860D-4BAB-B788-207ABEF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FD9F-7FC2-4A5A-A547-701FE3E1F03B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EB2-9529-48A0-88BD-8AB563854DBC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9C6A-A7EC-4E13-8FBF-EA252F425300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0A2-456C-41AC-8510-5274498D68EF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/articles/16313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650880"/>
            <a:ext cx="7239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CONSFĂTUIRILE NAŢIONALE </a:t>
            </a:r>
            <a:br>
              <a:rPr sz="1800"/>
            </a:b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ALE INSPECTORILOR 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Ș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COLARI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 PENTRU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Diagnoza procesului educaţional din anul școlar 2016-201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404040"/>
                </a:solidFill>
                <a:latin typeface="Tahoma"/>
              </a:rPr>
              <a:t>●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Regulamentul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de inspecție a unităților de învățământ preuniversitar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O MECTS nr. 5547/6 octombrie 2011)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se poate accesa la adresa: </a:t>
            </a:r>
            <a:r>
              <a:rPr b="0" lang="ro-RO" sz="20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://www.edu.ro/index.php/articles/163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 tipuri fundamentale de inspecție a unităților de învățământ preuniversitar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școlară generală a unităților de învățământ preuniversitar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tematic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de specialita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808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ONSF</a:t>
            </a:r>
            <a:r>
              <a:rPr b="1" lang="ro-RO" sz="2000" spc="-1" strike="noStrike">
                <a:solidFill>
                  <a:srgbClr val="3399ff"/>
                </a:solidFill>
                <a:latin typeface="Arial"/>
              </a:rPr>
              <a:t>ĂTUIRILE ANUALE ALE INSPECTORILOR ȘCOLARI  PENTRU LIMBI MOD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95280" y="1523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Arial"/>
              </a:rPr>
              <a:t>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5-8</a:t>
            </a:r>
            <a:r>
              <a:rPr b="1" lang="en-US" sz="18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  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d) consilierea cadrului didactic inspectat în legătură cu proiectarea și utilizarea unor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e) evaluarea capacității cadrului didactic inspectat de a integra Tehnologia informației și comunicațiilor </a:t>
            </a:r>
            <a:r>
              <a:rPr b="0" i="1" lang="vi-VN" sz="2000" spc="-1" strike="noStrike">
                <a:solidFill>
                  <a:srgbClr val="404040"/>
                </a:solidFill>
                <a:latin typeface="Arial"/>
              </a:rPr>
              <a:t>(TIC) și lecțiile din cadrul Platformei de eLearning(AEL)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f) consilierea cadrului didactic inspectat în legătură cu integrar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TIC și a lecțiilor AEL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g) evaluarea competențelor cadrului didactic inspectat de autiliza metodel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h) consilierea cadrului didactic inspectat în legătură cu utilizarea unor metod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i) evaluarea capacității cadrului didactic inspectat de a integra elementele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78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j) consilierea cadrului didactic inspectat în legătură cu integrarea elementelor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k) consilierea cadrelor didactice în vederea diversificării ofertei curriculare de cursuri opțional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) consilierea cadrelor didactice în legătură cu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23880"/>
            <a:ext cx="7315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) relația profesor—elev și aplicarea sistematică a strategiilor didactice centrate p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b) utilizarea achizițiilor anterioare de învățare ale elev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c) concordanța dintre strategiile didactice utilizate și caracteristicile grupurilor d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) individualizarea sarcinilor și a situațiilor de învățare în funcți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nevoile identifica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) caracterul interdisciplinar și transdisciplinar — legături cu al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scipline de studiu, în cadrul aceleeași arii, și legături cu discip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rii curriculare diferi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3482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500"/>
            </a:br>
            <a:br>
              <a:rPr sz="2500"/>
            </a:br>
            <a:r>
              <a:rPr b="1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160" y="18288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odul de selecție și utilizare a auxiliarelor curriculare în funcție 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specificul unității de învățământ preuniversitar și de achiziți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nterioa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învățare ale educabil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g) dezvoltarea capacității elevilor de a învăța din experiență și di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ractic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h) modul de răspuns al cadrului didactic la cererile elevilor sau a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ărinților privind acordarea de sprijin individual în 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includerea, dacă este cazul, în cadrul activităților de predare-învăț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valuare a elementelor specifice ale minorităților etnice, religioase sa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altă natură existente în instituția de educați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j) utilizarea formelor de evaluare formativă și sumativă a rezultate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ări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295280"/>
            <a:ext cx="7924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k) respectarea recomandărilor de igienă școlară privind echilibrul dint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ctivitatea școlară a elevului și celelalte tipuri de activități specifi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vârstei (inclusiv în privința temelor pentru acasă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l) respectarea drepturilor și îndatoririlor cadrelor didactice și ale elevi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 cadrul proceselor de predare-învățare-evalu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) utilizarea autoevaluării și interevaluării elevilor în activitățil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prezentarea produselor activității elevilor în sălile de clasă/grupă ș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celelalte spații ale unității de învățământ preuniversita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o) caracterul obiectiv al evaluării formative și sum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eg</a:t>
            </a:r>
            <a:r>
              <a:rPr b="0" lang="ro-RO" sz="3600" spc="-1" strike="noStrike">
                <a:solidFill>
                  <a:srgbClr val="000000"/>
                </a:solidFill>
                <a:latin typeface="Trebuchet MS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irea cadrelor didactic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Direc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ţ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ii principale de preg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ă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ti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unoaşterea documentelor şcolare reglatoar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(Planurile –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dru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şi programele şcolare în vigoare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Pregătirea de specialitate şi metodic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manualelor şcolare, a ghidurilor metodologice  şi a ghidurilor de evaluare pentru disciplina Limba modern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ormarea cadrelor didactice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 în vederea abordării interdisciplinare a lecţiilor de limbă modern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Dotarea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binetelor de limbi moder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 instrumentelor de evaluare, inclusiv a instrumentelor digitale de evalua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 rot="20880000">
            <a:off x="755280" y="1412640"/>
            <a:ext cx="75247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SUCCES TUTUROR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ÎN NOUL AN ŞCOLAR 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şcolară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-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reprezintă un ansamblu de acţiuni  care urmăresc îndrumarea, controlul şi evaluarea activităţii desfăşurate de cadrele didactice, colectivele de catedră / comisiile metodice, conducerile unităţilor de învăţământ, inspectorii şcolari, inspectorii şcolari de specialitate, inspectori şcolari generali adjuncţi şi inspectorii şcolari generali, în cadrul procesului de învăţământ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asigură o evaluare externă de proces a calităţii şi a nivelului atingerii standardelor educaţ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se desfăşoară prin acţiuni specifice proiectate şi realizate la nivelul unităţii de învăţământ, al inspectoratului şcolar şi al Ministerului Educaţiei Naționale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este organizată de căt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a) Ministerul Educaţiei Naț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b) Inspectoratele şcolare județene/ al municipiului București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FUNCŢIILE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 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</a:t>
            </a:r>
            <a:r>
              <a:rPr b="1" lang="ro-RO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iagnoză, prognoză şi prospecţie a sistemului de învăţământ pe o perioadă determinată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planificare şi organizare a sistem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orientare şi îndrumare metodologică a proces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monitorizare a eliminării disfuncţiilor constatate prin aplicarea planului de măsur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reglare/autoreglare a sistemului şi/sau a procesului de învăţămâ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SCOPU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L 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unităţilor şcolare şi a personalului didactic în creşterea calităţii procesului educativ prin consiliere şi revizuire continu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evaluării calităţii ofertei educaţionale şi a nivelului de performanţă atins de elevi, la nivel naţional, regional, judeţean şi local, prin furnizarea către cei în drept a rapoartelor de inspecţi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Principiile inspecţiei şcolare sunt: 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alităţii ofertei educaţion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galităţii şanselor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meliorării şi dezvolt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utoevalu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feed-back-ului constructiv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ompetenţei şi profesionalismulu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miterii judecăţilor de valoar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xaminării multicriteri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transparenţei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53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În evaluarea şi consilierea cadrelor didactice în cadrul inspecţiei de specialitate se va urmări cu precăde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unoaşterea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în care demersul didactic este conceput din perspectiva atingerii competenţelor specifice incluse în  cadrul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Asocierea în cadrul planificării şi proiectării didactice 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nţinuturilor în funcţie de competenţele specific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Utilizarea unor strategii didactice bazate pe metode moderne şi alternarea formelor de activitat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Integrarea  elementelor de evaluare  în cadrul strategiilor didactice prin  utilizarea unor forme şi metode diversificat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 evaluare inițială, evaluare formativă, evaluare sumativ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metode tradiţionale şi metode alternative şi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mplementare, inclusiv evaluarea digital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6934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de adecvare al strategiei didactice la particularităţile claselor de elevi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Realizarea unor conexiuni inter şi trans-disciplin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Evaluarea activităţii didactice din perspectiva eficienţei învăţări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5fcbef"/>
                </a:solidFill>
                <a:latin typeface="Trebuchet MS"/>
                <a:ea typeface="Tahoma"/>
              </a:rPr>
              <a:t>Inspecția de specialitate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 tipuri majore de activități</a:t>
            </a:r>
            <a:r>
              <a:rPr b="0" i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Activități de asistență la lecție/lecții, analiză, autoevaluare, evaluare și consilie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. Analiza documentelor și a activităților catedrei și consilierea membrilor catedre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Scop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îl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constitui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evaluarea și/sau monitorizarea activității didactice, în mod fundamental a activității de proiectare, predare-învățare-evaluare, prin raportare la sistemul de competențe al profesiei didactice, consilierea cadrelor didactice în legătură cu activitat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or profesională și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Principalele obiective urmărite în cadr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sunt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a) evaluarea competențelor cadrului didactic inspectat de a elabora, pe baza unei lecturi personalizate a programei școlare, planificările calendaristice și proiectele unităților de 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b) consilierea cadrului didactic inspectat în legătură cu realizarea activităților de planificare și proiectare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c) evaluarea capacității cadrului didactic inspectat de a proiecta și utiliza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9:04:12Z</dcterms:created>
  <dc:creator>Manuela-Delia Anghel</dc:creator>
  <dc:description/>
  <dc:language>en-US</dc:language>
  <cp:lastModifiedBy>Luminita Stoian</cp:lastModifiedBy>
  <dcterms:modified xsi:type="dcterms:W3CDTF">2017-09-04T04:47:38Z</dcterms:modified>
  <cp:revision>139</cp:revision>
  <dc:subject/>
  <dc:title>CURRICULUM ŞI INSPECŢIE ŞCOLARĂ</dc:title>
</cp:coreProperties>
</file>