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AF5-F8F2-44EB-AF2B-15D84BEC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38A-88A7-4659-8BA6-6D19F771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2113-7888-4CA6-B9D6-0624B34E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1EA-405F-468B-81AF-1B5B529A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362C-0BE6-467C-881A-ABA7C761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D4AA-16EA-492A-85E9-E7054230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6ED9-9806-48F2-A9CD-725170B8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43D1-FC37-414A-9E8F-DED9F0BF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1B7E-B569-4327-9430-27E90E91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076C-6369-4A51-BBA7-F4F54B29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1FF4-B6D5-4896-842C-9E1A6C81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7A9-663C-4E20-A5A1-409A2114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64AB-2CAC-46D2-A761-68447204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4C66-322A-4AB3-A863-5108E7A3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3A90-BBDD-4FF2-BADB-BEF47C48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D2F4-DB75-4645-ADC5-D9354C2D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B06E-F63B-4DDE-931D-DD2E6566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91102-855F-4E1B-BB14-6AC908ED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14FBF-3E85-430D-BCFC-F9CEA2B9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C498C-2FF2-437F-A51B-5F56BF07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6D1E4-27F9-4D5C-8824-1372D9EF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24355B-5A39-4EE7-B59A-BE81ABD7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4CC-0A64-4D67-808D-864E7C3F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EC0FC-F2A1-4C3E-9FB5-738C6625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69601-63DE-461F-BAA3-FF7E7BC5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35E9B-904F-4120-941F-AFD832B5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3F24C-6AD0-4360-BE3B-DC8A7AD6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A0729-5A3C-46FA-956F-B4F7742E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86C4F-8ACB-472E-84B5-46A9D720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27BDE-0ACD-453A-AF4E-E9961D3F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F20C6-8D01-40D1-86D1-54A144E1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6664B-0E4F-4207-AF7C-A0627D08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4C340-09C4-4388-B775-68F4E572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AD8-FE63-45C1-87E4-916FB5A4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B3A16-C66C-4781-AE52-BE1C76A1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C1054-0E12-4310-BCB1-F4018645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630B6-087F-44E5-AB51-19F9E346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57D92-EC99-4B25-AEF7-93B43A56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B586C-9073-43E6-8A80-09C5652D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9F8CD-2E2B-467B-BCA3-A3C4783F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054B0-0427-46FE-A834-791DBDC2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D0CE2-14C1-4E2F-B85C-B93430B6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F51A4-D641-4FC4-BFE1-B73D6DAA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903F6-BF30-49B3-9C79-E349710D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EFC5-F394-481D-B3CA-6E82C0AA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C486C-C755-4F8E-86D3-65A67416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D07688-BDE4-41E0-9CBA-3D995483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58CA9-26A2-444D-BA5F-4FE8EC92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DA74B2-1126-4D07-91EF-A7B98857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6B493-928B-421A-ADEC-C8FB7AC4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54DADD-52AB-4A9A-B913-398D9607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33A3CD-A813-4AC4-8788-94624151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F008C-A156-42CF-82F5-7B1D11E4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D5A286-478A-4FA4-B2B8-2CB8781A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1CD42-C90A-4153-9CED-D0EEB88E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566-63C3-4577-925E-39F5FE3A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687B2D-67AE-43EF-BAAE-4824D780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B40BE-7F5C-4FF4-83AB-2B3D1342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C6396D-79AC-475C-8D4A-5F8C17E0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11B3B0-3E7E-419B-B369-3837BBB9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8EDEFF-51B5-479F-85EF-6CD292F2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9281FA-2B91-4F26-95E3-25799ED3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048322-ADC6-4DE5-8059-74B6D896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69BB2C-4C7B-4A6F-8ECF-EB08D3E0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E04D39-D3BA-4BFB-949B-E27141A6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3681E2-F97E-40D0-BE99-EBF10A54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F32-593D-4794-B737-A73F286F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FCCFED-B904-465B-9ADC-400F43E3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3C0A09-DBDF-422D-90B7-212F903F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251CDB-7927-435D-9DD0-8418B3F8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7B54F4-A5EA-4D6E-86ED-03E82B5A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F9EF7F-9F90-4740-95AE-DAE1BCAD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ED1E43-10EA-4588-BA7B-D91B9B63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5564B-65FB-4193-8D04-DC829A2A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2278B6-CE73-4A95-AE43-885C0CC4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E2B87F-C81B-4C46-9701-85F6F9E2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58D1FC-C2F5-4907-A89B-2E4A3678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7A9D-22FE-43DB-8EA0-DC1440F0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3DF8BF-84B0-4329-8525-72F7BC3C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BC1F64-B008-427A-A6CA-7A860F11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97356C-AA04-4110-84BC-F292847F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67AEFC-D732-4686-A4BA-CC0A682B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B8EB71-54BC-40BB-B1A1-288CFDB8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5D19-C605-4854-AF58-EBBE829C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A42A-58A1-4F0F-AD84-24F27646ACB0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D721-97AC-450D-9910-E1236D46A02D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E8EF-3E16-4454-9325-7F200A19FF2E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78CF-675A-4466-93D6-80F3332A900B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7C56-A516-4226-8A1A-1F23339B7B09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3ED4-581F-4164-81AD-0C93F16F503C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C0B2-12B0-4818-B920-451FBB9B20BE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862110"/>
                </a:solidFill>
                <a:latin typeface="Times New Roman"/>
              </a:rPr>
              <a:t>Teoria şi practica instruirii şi evaluării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Cls. a X-a 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Prof. Radu Florenti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764640"/>
            <a:ext cx="746748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ITEMUL PEDAGOGIC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după gradul de obiectivitate, identificăm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Title 1"/>
          <p:cNvSpPr/>
          <p:nvPr/>
        </p:nvSpPr>
        <p:spPr>
          <a:xfrm>
            <a:off x="468360" y="260280"/>
            <a:ext cx="7467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DELIMITĂRI CONCEPTU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826920" y="2276640"/>
          <a:ext cx="7108920" cy="441468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  <a:gridCol w="1790640"/>
                <a:gridCol w="1717560"/>
              </a:tblGrid>
              <a:tr h="1576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ategori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temi obiectiv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temi semiobietiv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temi subiectiv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(cu răspuns deschi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4644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ipur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emi cu alegere dual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emi cu răspuns scur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zolvare de proble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4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emi cu alegere multipl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emi de complet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seu structur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4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emi de tip perech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Întrebări structur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seu liber, nestructur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4674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EXEMPLE ITEMI OBIECTIVI</a:t>
            </a:r>
            <a:br>
              <a:rPr sz="2800"/>
            </a:br>
            <a:r>
              <a:rPr b="1" i="1" lang="vi-VN" sz="2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TEORIA ŞI PRACTICA INSTRUIRII ŞI EVALUĂ</a:t>
            </a:r>
            <a:r>
              <a:rPr b="1" i="1" lang="vi-VN" sz="29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RII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i cu alegere duală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electarea răspunsului corect din două răspunsuri posibile oferit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r</a:t>
            </a:r>
            <a:r>
              <a:rPr b="0" i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le practice constituie o metod</a:t>
            </a:r>
            <a:r>
              <a:rPr b="0" i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evaluare alternativ</a:t>
            </a:r>
            <a:r>
              <a:rPr b="0" i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*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i cu alegere multipl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ea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i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gur răspuns corect sau cea mai bună alternativ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iectul didactic se întocmeste pentru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 zi de lucru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o lecţie*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o unitate de înv</a:t>
            </a:r>
            <a:r>
              <a:rPr b="0" i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a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700" spc="-1" strike="noStrike">
                <a:solidFill>
                  <a:srgbClr val="862110"/>
                </a:solidFill>
                <a:latin typeface="Times New Roman"/>
              </a:rPr>
              <a:t>EXEMPLE ITEMI OBIECTIVI</a:t>
            </a:r>
            <a:br>
              <a:rPr sz="2700"/>
            </a:br>
            <a:r>
              <a:rPr b="1" lang="vi-VN" sz="2700" spc="-1" strike="noStrike">
                <a:solidFill>
                  <a:srgbClr val="862110"/>
                </a:solidFill>
                <a:latin typeface="Times New Roman"/>
              </a:rPr>
              <a:t>TEORIA ŞI PRACTICA INSTRUIRII ŞI EVALUĂRI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50920" y="1600200"/>
            <a:ext cx="8353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i de tip pereche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upu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rea unor corespondenţe/ asociaţii între cuvinte, propoziţii, fraze, litere sau alte categorii de simboluri dispuse pe două coloan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403280" y="3716280"/>
          <a:ext cx="6624720" cy="1800360"/>
        </p:xfrm>
        <a:graphic>
          <a:graphicData uri="http://schemas.openxmlformats.org/drawingml/2006/table">
            <a:tbl>
              <a:tblPr/>
              <a:tblGrid>
                <a:gridCol w="2773440"/>
                <a:gridCol w="3851280"/>
              </a:tblGrid>
              <a:tr h="412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bservarea sistematic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etodă alternativă de evalu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12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ba scris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11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utoevaluare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etodă tradiţională  de evalu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6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versaţ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23640" y="1600200"/>
            <a:ext cx="82803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olicită elevului să construiască total sau parţial răspunsul la sarcina definită în itemi. Sunt, de regulă, itemi de completare (gen propoziţie lacunară) sau itemi de ordonare. Sunt o combinaţie între itemii obiectivi şi cei cu răspuns deschis (construit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Itemi cu răspuns scu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zaţi care sunt care sunt categoriile şi subcategoriile de item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i de completa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ele alternative de evaluare sunt: ..................., ................., ........................., ......................., ..............................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EXEMPLE ITEMI </a:t>
            </a:r>
            <a:r>
              <a:rPr b="1" lang="en-US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SEMI</a:t>
            </a:r>
            <a:r>
              <a:rPr b="1" lang="vi-VN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OBIECTIVI</a:t>
            </a:r>
            <a:br>
              <a:rPr sz="2700"/>
            </a:br>
            <a:r>
              <a:rPr b="1" lang="vi-VN" sz="2700" spc="-1" strike="noStrike">
                <a:solidFill>
                  <a:srgbClr val="862110"/>
                </a:solidFill>
                <a:latin typeface="Times New Roman"/>
              </a:rPr>
              <a:t>TEORIA ŞI PRACTICA INSTRUIRII ŞI EVALUĂRI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250560" y="1600200"/>
            <a:ext cx="8281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Itemi cu răspuns structurat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întrebare structurată este formată din mai multe subîntrebări de tip obiectiv, semiobiectiv sau minieseu, legate între ele printr-un element comu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rea- parte integrant</a:t>
            </a:r>
            <a:r>
              <a:rPr b="0" i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rocesului instructiv- educativ. Repere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Definirea procesului în raport cu predarea- înv</a:t>
            </a:r>
            <a:r>
              <a:rPr b="0" i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ţ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Funcţi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Operaţi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EXEMPLE ITEMI </a:t>
            </a:r>
            <a:r>
              <a:rPr b="1" lang="en-US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SEMI</a:t>
            </a:r>
            <a:r>
              <a:rPr b="1" lang="vi-VN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OBIECTIVI</a:t>
            </a:r>
            <a:br>
              <a:rPr sz="2700"/>
            </a:br>
            <a:r>
              <a:rPr b="1" lang="vi-VN" sz="2700" spc="-1" strike="noStrike">
                <a:solidFill>
                  <a:srgbClr val="862110"/>
                </a:solidFill>
                <a:latin typeface="Times New Roman"/>
              </a:rPr>
              <a:t>TEORIA ŞI PRACTICA INSTRUIRII ŞI EVALUĂRI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4000" y="1628640"/>
            <a:ext cx="8496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icită un răspuns deschis. Sunt destinaţi activării creativităţii, originalităţii şi posibilităţilor elevului de a transfera cunoştinţ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i tip “rezolvare de probleme”,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 determină confruntarea elevului cu o situaţie nouă, inedită, pentru care el trebuie să găsească soluţia, să aleagă strategia de lucru şi să le rezolve singur, pe baza achiziţiilor anterioare şi a experienţei sa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i tip „eseu liber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pune elevul în situaţia de a construi un răspuns liber în conformitate cu un set dat de cerinţ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i tip „eseu structurat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EXEMPLE ITEMI </a:t>
            </a:r>
            <a:r>
              <a:rPr b="1" lang="en-US" sz="27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SUBIECTIVI</a:t>
            </a:r>
            <a:br>
              <a:rPr sz="2700"/>
            </a:br>
            <a:r>
              <a:rPr b="1" lang="vi-VN" sz="2700" spc="-1" strike="noStrike">
                <a:solidFill>
                  <a:srgbClr val="862110"/>
                </a:solidFill>
                <a:latin typeface="Times New Roman"/>
              </a:rPr>
              <a:t>TEORIA ŞI PRACTICA INSTRUIRII ŞI EVALUĂRI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23640" y="1600200"/>
            <a:ext cx="82803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Matricea de specificaţii reprezintă o punte de legătură între obiective, conţinuturi, şi evaluar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Matricea de specificaţii constă într-un tabel cu două intrări care serveşte la proiectarea şi organizarea itemilor dintr-un test docimologic în care sunt precizate, pe de o parte, conţinuturile care vor fi vizate şi, pe de altă parte, nivelele taxonomice la care se plasează obiectivele de evalu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Title 1"/>
          <p:cNvSpPr/>
          <p:nvPr/>
        </p:nvSpPr>
        <p:spPr>
          <a:xfrm>
            <a:off x="468360" y="260280"/>
            <a:ext cx="7467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DELIMITĂRI CONCEPTU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764640"/>
            <a:ext cx="746748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MATRICEA DE SPECIFICAŢI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5" descr=""/>
          <p:cNvPicPr/>
          <p:nvPr/>
        </p:nvPicPr>
        <p:blipFill>
          <a:blip r:embed="rId1"/>
          <a:stretch/>
        </p:blipFill>
        <p:spPr>
          <a:xfrm>
            <a:off x="2340000" y="44280"/>
            <a:ext cx="4840200" cy="6845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84780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50920" y="1600200"/>
            <a:ext cx="8353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Sunt criterii calitative unitare care vizează o evaluare cât mai obiectivă şi care furnizează elevilor, profesorilor şi părinţilor informaţii relevante despre nivelul performanţelor elevilo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Se stabilesc de către cadrul didactic pentru fiecare calificativ cu care se operează învăţământul primar românesc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Title 1"/>
          <p:cNvSpPr/>
          <p:nvPr/>
        </p:nvSpPr>
        <p:spPr>
          <a:xfrm>
            <a:off x="468360" y="260280"/>
            <a:ext cx="7467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DELIMITĂRI CONCEPTU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764640"/>
            <a:ext cx="746748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DESCRIPTORI DE PERFORMANŢ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457200" y="2060640"/>
            <a:ext cx="8143920" cy="36496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764640"/>
            <a:ext cx="746748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DESCRIPTORI DE PERFORMANŢ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900000" y="189000"/>
            <a:ext cx="691200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Categorii taxonomice- Blo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" descr="C:\Users\Flori\Desktop\Untitled.png"/>
          <p:cNvPicPr/>
          <p:nvPr/>
        </p:nvPicPr>
        <p:blipFill>
          <a:blip r:embed="rId1"/>
          <a:stretch/>
        </p:blipFill>
        <p:spPr>
          <a:xfrm>
            <a:off x="1727280" y="1341360"/>
            <a:ext cx="525780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ACTIVITATE PE GRUP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000" y="2349000"/>
            <a:ext cx="3538440" cy="27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Times New Roman"/>
              </a:rPr>
              <a:t>Realizaţi o hartă conceptuală, pornind de la conţinutul ştiinţific prezentat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4211640" y="1841400"/>
            <a:ext cx="438624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3640" y="1600200"/>
            <a:ext cx="292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Times New Roman"/>
              </a:rPr>
              <a:t>Realizaţi un tip de item, la o disciplină la alegere, corelându-l cu o competenţă specifică  învăţământului prima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ACTIVITATE INDIVIDUAL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Picture 4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37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324000" y="189000"/>
            <a:ext cx="8208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ograf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Cerghit, I. T. Radu, E. Popescu, L. Vlăsceanu, 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actica, man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pentru clasa a X-a- şcoli normale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DP, Bucureşti,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 Ionescu, M. Bocoş, 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at de didactică modern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ditura Paralele 45, Piteşti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 M. Gavrilă, M. Nicolae, 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-u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orilor grafici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PH, Bucureşti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 Manolescu, 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rea şcolară- metode, tehnici, instrumente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ditura Meteor Press, Bucureşti, 200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 T. Radu, 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rea în procesul didactic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DP, Bucureşti, 2004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 şcolară pentru Disciplipele Pedagogice şi Psihologice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cureşti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667872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MORIŞCA LUI BLOOM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Content Placeholder 3" descr=""/>
          <p:cNvPicPr/>
          <p:nvPr/>
        </p:nvPicPr>
        <p:blipFill>
          <a:blip r:embed="rId1"/>
          <a:stretch/>
        </p:blipFill>
        <p:spPr>
          <a:xfrm>
            <a:off x="1986120" y="1123920"/>
            <a:ext cx="51717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179280" y="649440"/>
            <a:ext cx="8496360" cy="612108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358" name="Rectangle 3"/>
          <p:cNvSpPr/>
          <p:nvPr/>
        </p:nvSpPr>
        <p:spPr>
          <a:xfrm>
            <a:off x="539640" y="260280"/>
            <a:ext cx="7777440" cy="2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862110"/>
                </a:solidFill>
                <a:latin typeface="Times New Roman"/>
              </a:rPr>
              <a:t>Taxonomia </a:t>
            </a:r>
            <a:r>
              <a:rPr b="1" lang="en-US" sz="2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r</a:t>
            </a:r>
            <a:r>
              <a:rPr b="1" lang="vi-VN" sz="2000" spc="-1" strike="noStrike">
                <a:solidFill>
                  <a:srgbClr val="862110"/>
                </a:solidFill>
                <a:latin typeface="Times New Roman"/>
              </a:rPr>
              <a:t>evizuită a lui Bloom </a:t>
            </a:r>
            <a:r>
              <a:rPr b="1" lang="en-US" sz="2000" spc="-1" strike="noStrike">
                <a:solidFill>
                  <a:srgbClr val="862110"/>
                </a:solidFill>
                <a:latin typeface="Century Schoolbook"/>
              </a:rPr>
              <a:t>- categorii de ver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6407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TESTUL DOCIMOLOGIC- CARACTERISTICI, ETAPE ÎN ELABORAR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360" y="1773360"/>
            <a:ext cx="8207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Cuvinte cheie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>
                <a:solidFill>
                  <a:srgbClr val="000000"/>
                </a:solidFill>
                <a:latin typeface="Times New Roman"/>
              </a:rPr>
              <a:t>test docimologic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>
                <a:solidFill>
                  <a:srgbClr val="000000"/>
                </a:solidFill>
                <a:latin typeface="Times New Roman"/>
              </a:rPr>
              <a:t>item pedagogic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>
                <a:solidFill>
                  <a:srgbClr val="000000"/>
                </a:solidFill>
                <a:latin typeface="Times New Roman"/>
              </a:rPr>
              <a:t>matrice de specificaţii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>
                <a:solidFill>
                  <a:srgbClr val="000000"/>
                </a:solidFill>
                <a:latin typeface="Times New Roman"/>
              </a:rPr>
              <a:t>descriptori de performanţă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4674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DELIMITĂRI CONCEPTUA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50920" y="1600200"/>
            <a:ext cx="8424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Times New Roman"/>
              </a:rPr>
              <a:t>test care îndeplineşte o funcţie docimologică- de examinare şi notar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Times New Roman"/>
              </a:rPr>
              <a:t>este un instrument de verificare cu o structură şi însuşiri specific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Times New Roman"/>
              </a:rPr>
              <a:t>poate fi o probă orală sau practică, dar de cele mai multe ori este o probă scrisă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itle 1"/>
          <p:cNvSpPr/>
          <p:nvPr/>
        </p:nvSpPr>
        <p:spPr>
          <a:xfrm>
            <a:off x="685800" y="836640"/>
            <a:ext cx="7467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TESTUL DOCIMO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AVANTAJ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94920" y="1052280"/>
            <a:ext cx="8147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obiectivitate sporită (datorită corelării intrinseci între obiectivele didactice, conţinuturile învăţării şi itemii testului)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rigurozitate în măsurarea achiziţiilor elevului şi în aprecierea modului de rezolvare a itemilor/ probelor conţinute în test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dezvoltă capacitatea de autoevaluare la şcolari, în măsura în care aceştia pot verifica singuri corectitudinea modului de rezolvare a itemilor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oferă, prin rezultatul lor, posibilitatea adoptării de decizii, oportune şi în timp util, destinate ameliorării actului didactic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6840" y="1600200"/>
            <a:ext cx="8218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500" spc="-1" strike="noStrike">
                <a:solidFill>
                  <a:srgbClr val="000000"/>
                </a:solidFill>
                <a:latin typeface="Times New Roman"/>
              </a:rPr>
              <a:t>se elaborează greu, efortul pentru realizarea lor fiind relativ mare datorită complexităţii itemilor şi cuantificării diferenţiate a acestora (punctaje maxim şi minim);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500" spc="-1" strike="noStrike">
                <a:solidFill>
                  <a:srgbClr val="000000"/>
                </a:solidFill>
                <a:latin typeface="Times New Roman"/>
              </a:rPr>
              <a:t>consumă timp;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500" spc="-1" strike="noStrike">
                <a:solidFill>
                  <a:srgbClr val="000000"/>
                </a:solidFill>
                <a:latin typeface="Times New Roman"/>
              </a:rPr>
              <a:t>inhibă elevii emotivi (sensibili).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Title 1"/>
          <p:cNvSpPr/>
          <p:nvPr/>
        </p:nvSpPr>
        <p:spPr>
          <a:xfrm>
            <a:off x="468360" y="623880"/>
            <a:ext cx="74674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DEZAVANT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ELABORAREA TESTULUI DOCIMOLOGIC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78920" y="134136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tap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500" spc="-1" strike="noStrike">
                <a:solidFill>
                  <a:srgbClr val="000000"/>
                </a:solidFill>
                <a:latin typeface="Times New Roman"/>
              </a:rPr>
              <a:t>stabilirea obiectivelor </a:t>
            </a:r>
            <a:r>
              <a:rPr b="0" lang="vi-VN" sz="2500" spc="-1" strike="noStrike">
                <a:solidFill>
                  <a:srgbClr val="000000"/>
                </a:solidFill>
                <a:latin typeface="Times New Roman"/>
              </a:rPr>
              <a:t>urmărite;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500" spc="-1" strike="noStrike">
                <a:solidFill>
                  <a:srgbClr val="000000"/>
                </a:solidFill>
                <a:latin typeface="Times New Roman"/>
              </a:rPr>
              <a:t>stabilirea materiei </a:t>
            </a:r>
            <a:r>
              <a:rPr b="0" lang="vi-VN" sz="2500" spc="-1" strike="noStrike">
                <a:solidFill>
                  <a:srgbClr val="000000"/>
                </a:solidFill>
                <a:latin typeface="Times New Roman"/>
              </a:rPr>
              <a:t>(teme, capitole, grup de lecţii etc.) din care se va susţine testarea;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500" spc="-1" strike="noStrike">
                <a:solidFill>
                  <a:srgbClr val="000000"/>
                </a:solidFill>
                <a:latin typeface="Times New Roman"/>
              </a:rPr>
              <a:t>elaborarea itemilor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500" spc="-1" strike="noStrike">
                <a:solidFill>
                  <a:srgbClr val="000000"/>
                </a:solidFill>
                <a:latin typeface="Times New Roman"/>
              </a:rPr>
              <a:t>cuantificarea testului </a:t>
            </a:r>
            <a:r>
              <a:rPr b="0" lang="vi-VN" sz="2500" spc="-1" strike="noStrike">
                <a:solidFill>
                  <a:srgbClr val="000000"/>
                </a:solidFill>
                <a:latin typeface="Times New Roman"/>
              </a:rPr>
              <a:t>(atribuirea punctajelor: maxim specific şi minim acceptat; echivalarea în note/calificative);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500" spc="-1" strike="noStrike">
                <a:solidFill>
                  <a:srgbClr val="000000"/>
                </a:solidFill>
                <a:latin typeface="Times New Roman"/>
              </a:rPr>
              <a:t>organizarea testului </a:t>
            </a:r>
            <a:r>
              <a:rPr b="0" lang="vi-VN" sz="2500" spc="-1" strike="noStrike">
                <a:solidFill>
                  <a:srgbClr val="000000"/>
                </a:solidFill>
                <a:latin typeface="Times New Roman"/>
              </a:rPr>
              <a:t>(înştiinţarea elevilor, prezentarea instrucţiunilor de lucru, precizarea timpului de execuţie, asigurarea condiţiilor de aplicare a testului);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500" spc="-1" strike="noStrike">
                <a:solidFill>
                  <a:srgbClr val="000000"/>
                </a:solidFill>
                <a:latin typeface="Times New Roman"/>
              </a:rPr>
              <a:t>aplicarea testului</a:t>
            </a:r>
            <a:r>
              <a:rPr b="0" lang="vi-VN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500" spc="-1" strike="noStrike">
                <a:solidFill>
                  <a:srgbClr val="000000"/>
                </a:solidFill>
                <a:latin typeface="Times New Roman"/>
              </a:rPr>
              <a:t>notarea rezultatelor obţinute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05:33:13Z</dcterms:created>
  <dc:creator>HSH</dc:creator>
  <dc:description/>
  <dc:language>en-US</dc:language>
  <cp:lastModifiedBy>Flori</cp:lastModifiedBy>
  <dcterms:modified xsi:type="dcterms:W3CDTF">2017-04-02T10:28:46Z</dcterms:modified>
  <cp:revision>109</cp:revision>
  <dc:subject/>
  <dc:title>Slide 1</dc:title>
</cp:coreProperties>
</file>