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16.wmf" ContentType="image/x-wmf"/>
  <Override PartName="/ppt/media/image8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B784-43B0-4245-9375-EEC49CB4D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A42B-0EA0-4D62-8E3A-78614EC9D200}" type="slidenum">
              <a:rPr b="0" lang="en-US" sz="1200" spc="-1" strike="noStrike">
                <a:solidFill>
                  <a:srgbClr val="000000"/>
                </a:solidFill>
                <a:latin typeface="Titillium We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17C-BA8A-46A6-BA43-630751FB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EA5-C9E6-49D0-AA29-334D914D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A5B-15CC-4CF6-8C51-06B3EBF2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048-75C4-4ECC-A4A6-8E6D94DE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D36-49F8-45CF-836B-695B7FD4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2FE-5A96-4071-856B-10189E3F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563-C84F-4200-9DE3-93A2897F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8CB-AA35-421B-BE86-69C4ACF0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D41-5B5E-4A74-AA52-2D03A150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2B0-61A8-4EA6-9C8F-CE7ECB18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DA9-766F-42ED-8B6E-C6297492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F8B-B15C-47E0-8990-F85DBE56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1315-5DB8-42ED-8CE6-4038789F00B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de sortat dupa laptopul vechi\15.05.2013\0.1.data\work\0.2. scoala de valori\0.4. Communication\rebranding 2013\Pt prezentari\template-ppts-03.jpg"/>
          <p:cNvPicPr/>
          <p:nvPr/>
        </p:nvPicPr>
        <p:blipFill>
          <a:blip r:embed="rId2"/>
          <a:stretch/>
        </p:blipFill>
        <p:spPr>
          <a:xfrm>
            <a:off x="0" y="1285920"/>
            <a:ext cx="9906120" cy="557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de sortat dupa laptopul vechi\15.05.2013\0.1.data\work\0.2. scoala de valori\0.4. Communication\rebranding 2013\Pt prezentari\template-ppts-04.jpg"/>
          <p:cNvPicPr/>
          <p:nvPr/>
        </p:nvPicPr>
        <p:blipFill>
          <a:blip r:embed="rId2"/>
          <a:stretch/>
        </p:blipFill>
        <p:spPr>
          <a:xfrm>
            <a:off x="-4680" y="1247760"/>
            <a:ext cx="9974160" cy="5610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:\de sortat dupa laptopul vechi\15.05.2013\0.1.data\work\0.2. scoala de valori\0.4. Communication\rebranding 2013\Pt prezentari\template-ppts-05.jpg"/>
          <p:cNvPicPr/>
          <p:nvPr/>
        </p:nvPicPr>
        <p:blipFill>
          <a:blip r:embed="rId2"/>
          <a:stretch/>
        </p:blipFill>
        <p:spPr>
          <a:xfrm>
            <a:off x="0" y="1274760"/>
            <a:ext cx="9926640" cy="5583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de sortat dupa laptopul vechi\15.05.2013\0.1.data\work\0.2. scoala de valori\0.4. Communication\rebranding 2013\Pt prezentari\template-ppts-01.jpg"/>
          <p:cNvPicPr/>
          <p:nvPr/>
        </p:nvPicPr>
        <p:blipFill>
          <a:blip r:embed="rId2"/>
          <a:stretch/>
        </p:blipFill>
        <p:spPr>
          <a:xfrm>
            <a:off x="-7920" y="1281240"/>
            <a:ext cx="9914040" cy="5576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:\de sortat dupa laptopul vechi\15.05.2013\0.1.data\work\0.2. scoala de valori\0.4. Communication\rebranding 2013\Pt prezentari\template-ppts-05.jpg"/>
          <p:cNvPicPr/>
          <p:nvPr/>
        </p:nvPicPr>
        <p:blipFill>
          <a:blip r:embed="rId2"/>
          <a:stretch/>
        </p:blipFill>
        <p:spPr>
          <a:xfrm>
            <a:off x="0" y="1274760"/>
            <a:ext cx="9926640" cy="55832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D:\de sortat dupa laptopul vechi\15.05.2013\0.1.data\work\0.2. scoala de valori\0.4. Communication\rebranding 2013\Pt prezentari\template-ppts-05.jpg"/>
          <p:cNvPicPr/>
          <p:nvPr/>
        </p:nvPicPr>
        <p:blipFill>
          <a:blip r:embed="rId2"/>
          <a:stretch/>
        </p:blipFill>
        <p:spPr>
          <a:xfrm>
            <a:off x="0" y="1274760"/>
            <a:ext cx="9926640" cy="55832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tilium"/>
              </a:rPr>
              <a:t>OLIMPIADELE KAUFLAND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Content Placeholder 4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59056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609480" y="1895400"/>
            <a:ext cx="41626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41623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" descr=""/>
          <p:cNvPicPr/>
          <p:nvPr/>
        </p:nvPicPr>
        <p:blipFill>
          <a:blip r:embed="rId2"/>
          <a:stretch/>
        </p:blipFill>
        <p:spPr>
          <a:xfrm>
            <a:off x="762120" y="2379600"/>
            <a:ext cx="41623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MECANISMUL COMPETIȚIEI – ACTIVITĂȚ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08636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4876920" y="1495440"/>
            <a:ext cx="4162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tilium"/>
              </a:rPr>
              <a:t>CUM POT </a:t>
            </a:r>
            <a:r>
              <a:rPr b="1" lang="ro-RO" sz="3000" spc="-1" strike="noStrike">
                <a:solidFill>
                  <a:srgbClr val="000000"/>
                </a:solidFill>
                <a:latin typeface="Titilium"/>
              </a:rPr>
              <a:t>Ș</a:t>
            </a:r>
            <a:r>
              <a:rPr b="1" lang="en-US" sz="3000" spc="-1" strike="noStrike">
                <a:solidFill>
                  <a:srgbClr val="000000"/>
                </a:solidFill>
                <a:latin typeface="Titilium"/>
              </a:rPr>
              <a:t>COLILE S</a:t>
            </a:r>
            <a:r>
              <a:rPr b="1" lang="ro-RO" sz="3000" spc="-1" strike="noStrike">
                <a:solidFill>
                  <a:srgbClr val="000000"/>
                </a:solidFill>
                <a:latin typeface="Titilium"/>
              </a:rPr>
              <a:t>Ă</a:t>
            </a:r>
            <a:r>
              <a:rPr b="1" lang="en-US" sz="3000" spc="-1" strike="noStrike">
                <a:solidFill>
                  <a:srgbClr val="000000"/>
                </a:solidFill>
                <a:latin typeface="Titilium"/>
              </a:rPr>
              <a:t> SE BUCURE DE PREMII</a:t>
            </a:r>
            <a:r>
              <a:rPr b="1" lang="ro-RO" sz="3000" spc="-1" strike="noStrike">
                <a:solidFill>
                  <a:srgbClr val="000000"/>
                </a:solidFill>
                <a:latin typeface="Titilium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9037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Tahoma"/>
              </a:rPr>
              <a:t>CALENDARUL COMPETIȚIEI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ro-RO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Content Placeholder 3" descr=""/>
          <p:cNvPicPr/>
          <p:nvPr/>
        </p:nvPicPr>
        <p:blipFill>
          <a:blip r:embed="rId1"/>
          <a:stretch/>
        </p:blipFill>
        <p:spPr>
          <a:xfrm>
            <a:off x="480960" y="1596960"/>
            <a:ext cx="8944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itilium"/>
              </a:rPr>
              <a:t>COSTURI ELIGIBILE PENTRU </a:t>
            </a:r>
            <a:br>
              <a:rPr sz="3200"/>
            </a:br>
            <a:r>
              <a:rPr b="1" lang="ro-RO" sz="3200" spc="-1" strike="noStrike">
                <a:solidFill>
                  <a:srgbClr val="000000"/>
                </a:solidFill>
                <a:latin typeface="Titilium"/>
              </a:rPr>
              <a:t>PROIECTUL ȘCOLI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Proiecte de investiție – renovări, amenajări, etc..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Achiziții de bunuri și servicii necesare bunei desfășurări a activității școla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Programe destinate elevilor (fonduri de premiere, alte activități extracuriculare, etc...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tilium"/>
              </a:rPr>
              <a:t>Programe destinate profesorilor (fonduri de premiere, programe de pregatire, etc...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arian.knup@scoaladevalori.ro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0743618859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www.olimpiadelek.ro – din 15 septembri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tilium"/>
              </a:rPr>
              <a:t>STRUCTURA PREZENT</a:t>
            </a:r>
            <a:r>
              <a:rPr b="1" lang="ro-RO" sz="3600" spc="-1" strike="noStrike">
                <a:solidFill>
                  <a:srgbClr val="000000"/>
                </a:solidFill>
                <a:latin typeface="Titilium"/>
              </a:rPr>
              <a:t>Ă</a:t>
            </a:r>
            <a:r>
              <a:rPr b="1" lang="en-US" sz="3600" spc="-1" strike="noStrike">
                <a:solidFill>
                  <a:srgbClr val="000000"/>
                </a:solidFill>
                <a:latin typeface="Titilium"/>
              </a:rPr>
              <a:t>RII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95000" y="1600200"/>
            <a:ext cx="9334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e este programul : </a:t>
            </a:r>
            <a:r>
              <a:rPr b="1" lang="en-US" sz="2800" spc="-1" strike="noStrike">
                <a:solidFill>
                  <a:srgbClr val="000000"/>
                </a:solidFill>
                <a:latin typeface="Titilium"/>
              </a:rPr>
              <a:t>“OLIMPIADELE KAUFLAND”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Mecanismul compet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ț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ie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um pot 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ș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olile s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 se bucure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de premi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2" descr="https://encrypted-tbn0.gstatic.com/images?q=tbn:ANd9GcQAotxXLcjQMkIAiYsewYD6xpuHHtZQWIv9TnZFQ4XIVTzdiimS8A"/>
          <p:cNvPicPr/>
          <p:nvPr/>
        </p:nvPicPr>
        <p:blipFill>
          <a:blip r:embed="rId1"/>
          <a:stretch/>
        </p:blipFill>
        <p:spPr>
          <a:xfrm>
            <a:off x="6465960" y="2514600"/>
            <a:ext cx="28098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-152280" y="77760"/>
            <a:ext cx="102106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Titilium"/>
              </a:rPr>
              <a:t>DESPRE PROGRA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OlimpiadeleK este un program de </a:t>
            </a:r>
            <a:r>
              <a:rPr b="1" lang="vi-VN" sz="2800" spc="-1" strike="noStrike">
                <a:solidFill>
                  <a:srgbClr val="000000"/>
                </a:solidFill>
                <a:latin typeface="Titilium"/>
              </a:rPr>
              <a:t>responsabilitate socială </a:t>
            </a: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sponsorizat de către Kaufland România și implementat în parteneriat cu Școala de Valori și Ministerul Educației și Cercetării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OlimpiadeleK 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are forma unei </a:t>
            </a:r>
            <a:r>
              <a:rPr b="0" lang="en-US" sz="2800" spc="-1" strike="noStrike">
                <a:solidFill>
                  <a:srgbClr val="000000"/>
                </a:solidFill>
                <a:latin typeface="Titilium"/>
              </a:rPr>
              <a:t>compet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ții la nivel național la care pot participa toate instituțiile de învățământ public din România - </a:t>
            </a: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grădinițe, școli primare și gimnaziale, licee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Titilium"/>
              </a:rPr>
              <a:t>DESPRE P</a:t>
            </a:r>
            <a:r>
              <a:rPr b="1" lang="ro-RO" sz="3600" spc="-1" strike="noStrike">
                <a:solidFill>
                  <a:srgbClr val="000000"/>
                </a:solidFill>
                <a:latin typeface="Titilium"/>
              </a:rPr>
              <a:t>R</a:t>
            </a:r>
            <a:r>
              <a:rPr b="1" lang="vi-VN" sz="3600" spc="-1" strike="noStrike">
                <a:solidFill>
                  <a:srgbClr val="000000"/>
                </a:solidFill>
                <a:latin typeface="Titilium"/>
              </a:rPr>
              <a:t>OGRA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Câștigătoare vor fi 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unitățile de învățământ </a:t>
            </a:r>
            <a:r>
              <a:rPr b="0" lang="vi-VN" sz="2800" spc="-1" strike="noStrike">
                <a:solidFill>
                  <a:srgbClr val="000000"/>
                </a:solidFill>
                <a:latin typeface="Titilium"/>
              </a:rPr>
              <a:t>ai căror dascăli și elevi formează adevărate echipe și desfășoară împreună cât mai multe activități</a:t>
            </a:r>
            <a:r>
              <a:rPr b="0" lang="ro-RO" sz="2800" spc="-1" strike="noStrike">
                <a:solidFill>
                  <a:srgbClr val="000000"/>
                </a:solidFill>
                <a:latin typeface="Titilium"/>
              </a:rPr>
              <a:t> educaționale extracuriculare înscrise pe platforma competiție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Titilium"/>
              </a:rPr>
              <a:t>www.olimpiadelek.ro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-38160" y="609480"/>
            <a:ext cx="10069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9820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tilium"/>
              </a:rPr>
              <a:t>MECANISMUL COMPETI</a:t>
            </a:r>
            <a:r>
              <a:rPr b="0" lang="ro-RO" sz="3600" spc="-1" strike="noStrike">
                <a:solidFill>
                  <a:srgbClr val="000000"/>
                </a:solidFill>
                <a:latin typeface="Titilium"/>
              </a:rPr>
              <a:t>Ț</a:t>
            </a:r>
            <a:r>
              <a:rPr b="0" lang="en-US" sz="3600" spc="-1" strike="noStrike">
                <a:solidFill>
                  <a:srgbClr val="000000"/>
                </a:solidFill>
                <a:latin typeface="Titilium"/>
              </a:rPr>
              <a:t>IEI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2" descr="http://sunshineconsultingltd.com/wp-content/uploads/2011/06/our_business_system_integration.jpg"/>
          <p:cNvPicPr/>
          <p:nvPr/>
        </p:nvPicPr>
        <p:blipFill>
          <a:blip r:embed="rId1"/>
          <a:stretch/>
        </p:blipFill>
        <p:spPr>
          <a:xfrm>
            <a:off x="2525760" y="2133720"/>
            <a:ext cx="4619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500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9256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us</dc:creator>
  <dc:description/>
  <dc:language>en-US</dc:language>
  <cp:lastModifiedBy>Elena</cp:lastModifiedBy>
  <dcterms:modified xsi:type="dcterms:W3CDTF">2015-09-14T09:46:18Z</dcterms:modified>
  <cp:revision>45</cp:revision>
  <dc:subject/>
  <dc:title>PowerPoint Presentation</dc:title>
</cp:coreProperties>
</file>