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769E-0477-4AB8-AF1D-EE43537F06EE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0FF5-7125-4BBE-B9F9-32148217098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0B0-BE33-45E3-B7A1-5445DE0BCFA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717-B2B6-4284-A981-9E8F5D16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2A9-7EC3-4449-8151-51D0E4D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64A-3B4C-4C9C-94CC-9872EE38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6F1-A158-4E0E-8F3B-2759B120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DB3-A200-49CA-8CB6-A1C4457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E2B-CBEF-45EF-85A9-10D6EE9A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88E-EA06-4A8D-8E2C-2DB3E81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470-A6AE-40EE-8B23-2292A53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2F4-B918-48EC-91F0-E0BA5CE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D7B-3C55-40CF-8940-6184E4F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251-1BCA-429D-A8F2-C5846BD7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6ED-8DCC-4A9F-8682-75B5B21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E39D-D4ED-4F6A-84AC-D6A3E0F3F85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"/>
          <p:cNvSpPr/>
          <p:nvPr/>
        </p:nvSpPr>
        <p:spPr>
          <a:xfrm>
            <a:off x="534960" y="6362640"/>
            <a:ext cx="65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143-D8FE-4AA5-B001-A166DF55251A}" type="slidenum">
              <a:rPr b="0" lang="de-CH" sz="9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ild 2" descr="Logo_TdH_neutral_RGB_big.gif"/>
          <p:cNvPicPr/>
          <p:nvPr/>
        </p:nvPicPr>
        <p:blipFill>
          <a:blip r:embed="rId2"/>
          <a:stretch/>
        </p:blipFill>
        <p:spPr>
          <a:xfrm>
            <a:off x="6323040" y="6107040"/>
            <a:ext cx="2293920" cy="395280"/>
          </a:xfrm>
          <a:prstGeom prst="rect">
            <a:avLst/>
          </a:prstGeom>
          <a:ln w="0">
            <a:noFill/>
          </a:ln>
        </p:spPr>
      </p:pic>
      <p:pic>
        <p:nvPicPr>
          <p:cNvPr id="43" name="Bild 3" descr=""/>
          <p:cNvPicPr/>
          <p:nvPr/>
        </p:nvPicPr>
        <p:blipFill>
          <a:blip r:embed="rId3"/>
          <a:stretch/>
        </p:blipFill>
        <p:spPr>
          <a:xfrm flipH="1" rot="10800000">
            <a:off x="0" y="-36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460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Comic Sans MS"/>
              </a:rPr>
              <a:t>Ziua Ștafetei – Acum decid e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diția 201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960" y="5070240"/>
            <a:ext cx="8082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0" i="1" lang="ro-RO" sz="1900" spc="-1" strike="noStrike">
                <a:solidFill>
                  <a:srgbClr val="ffc000"/>
                </a:solidFill>
                <a:latin typeface="Comic Sans MS"/>
              </a:rPr>
              <a:t>Copiii pot face lucruri mult mai mărețe decât ne-am putea închipui. Tinerii au un uriaș potențial de a schimba lumea într-una mai bună ! ACUM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3203640" y="1955880"/>
            <a:ext cx="4748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53680" y="62064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4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 flipH="1">
            <a:off x="227880" y="1647720"/>
            <a:ext cx="8520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Ziua Ștafetei”</a:t>
            </a:r>
            <a:r>
              <a:rPr b="1" lang="ro-RO" sz="1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celebrează dreptul tuturor tiner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a participa în societate și se desfășoară în fiecare an în luna noiembrie, cu ocazia Zilei Internaționale a semnării Convenției privitoare la Drepturile Copilului, care are loc pe 20 noiemb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ima ediție a avut loc în 2012,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iind inspirată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modelul de „Takeover Day ” din UK și Scoț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nitiațiva, ajunsă în prezent la cea de-a patra ediție, este implementată de Fundația Terre des hommes în parteneriat cu Ministerul Educației, F.O.N.P.C, Ambasade, Asociații, ONG-uri, instituții de stat și private din toată țara, ce recunosc potențialul deosebit al tineril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Viziunea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acestui proiect este o lume în care tinerii sunt respectați, ascultați și trăiesc în demnita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1280" y="476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entru ce pled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80000" y="45864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627120"/>
            <a:ext cx="889308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Scopul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estui proiect este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facilitare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articipării copiilor și tinerilor la deciziile importante ce le pot influența viața și comunitatea în care trăiesc.</a:t>
            </a:r>
            <a:br>
              <a:rPr sz="1800"/>
            </a:b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oiectul are în vedere </a:t>
            </a:r>
            <a:br>
              <a:rPr sz="2400"/>
            </a:b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cunoaște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reptului la participare a copiilor în România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18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Introducerea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ui model educațional modern implementat la nivel național  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br>
              <a:rPr sz="2000"/>
            </a:b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rearea unui spațiu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explorare vocațională și de exprimare personală ce le dezvoltă potențialul 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Tinerii care au participat în perioada 2012 – 2014 au apreciat-o ca fiin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 experiență de neuitat ! .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Pur și simplu, nu ai cum să nu iubești Ziua Ștafete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c000"/>
                </a:solidFill>
                <a:latin typeface="Comic Sans MS"/>
              </a:rPr>
              <a:t>Extras din Jurnalul de Bord  al ediției din 2014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427800" y="25092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855440" y="25092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539640" y="665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82520" y="674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9280" y="1495440"/>
            <a:ext cx="835668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06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de tineri din 38 județ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u explorat peste 86 de meserii fiind susținuți în acest demers de 266 de coordonatori, din peste 200 de școli și 1032 de mentori.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ceste rezultate au fost obținute grație suportului oferit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Fondation 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’Harcour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nist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ru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 Ambasad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K, Franț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i Cehe, Elveți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ande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l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niei, Olandei, Delegaț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Wallonie Bruxelles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stitut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l France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ouble Tree by Hilton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B Schenker Romtrans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eroportul Otopeni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OM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 compani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, din pes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0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spitale, 14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ur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 medicale, 18 stați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adio and TV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unități militare, agenții de presă, structuri județe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12040" y="279360"/>
            <a:ext cx="26175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914400"/>
            <a:ext cx="8423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în 2015  ....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urnalul de bord al activităților din acest an va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sfășurarea regulată a unor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grupuri consultative de tineri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implicați în organizarea evenimentului și explorarea opiniilor și deciziilor pe care aceștia le doresc în diferite domenii de interes pentru aceș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ivități de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advocacy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ce pledează pentru participarea copilului în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o-RO" sz="1800" spc="-1" strike="noStrike">
                <a:solidFill>
                  <a:srgbClr val="000000"/>
                </a:solidFill>
                <a:latin typeface="Comic Sans MS"/>
              </a:rPr>
              <a:t>și de asemenea, extrem de important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4640" y="32076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22200" y="1273320"/>
            <a:ext cx="88218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de către tineri cu vârste cuprinse între 12-18 ani,  într-o manieră pozitivă, prin trei modalitaţi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imul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– un copil sau un grup de copii experimentează atribuţiile unei meserii sau toate meseriile ce funcţionează în cadrul unei institu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însoţire a mentorului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– un copil sau un grup de copii observă mentorul desfăşurându-şi activitat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participare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la soluţionarea unor provocări întâmpinate de o companie – copiii oferă posibile soluţii la problemele întâmpin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Conceptul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ste următorul : pentru o zi, tinerii </a:t>
            </a: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„preiau”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meseria visată, pe care au decis singuri că vor s-o experimenteze. Această zi specială este apoi pregătită și organizată atent în compania respectivă, astfel încât aceștia să o poată trăi la intensitatea maximă, să fie consultați în domeniul respectiv, să-și exprime propria lor viziune și să experimenteze cu adevărat acea mese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rofesionistul care predă ștafeta va deveni mentorul tânărului, având rolul de a ghida și facilita reușita întregii experienț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74040" y="65412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Preluarea „ ștafetei„ meseriei vis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26080" y="289080"/>
            <a:ext cx="26179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646200"/>
            <a:ext cx="8062920" cy="13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ee7f00"/>
                </a:solidFill>
                <a:latin typeface="Comic Sans MS"/>
              </a:rPr>
              <a:t>Pentru mai multe informații, vă stăm cu mare drag la dispoziț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Fundația Terre des hommes Elveț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curești, Strada Franzelarilor,Nr.6,Sec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www.tdh.ch / www.tdh.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ristina Vlades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28062960 / cristina.vladescu@tdh.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Tiberiu 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0731327376 / tiberiu.nica@tdh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latforma online a proiectului</a:t>
            </a:r>
            <a:r>
              <a:rPr b="1" lang="ro-RO" sz="2000" spc="-1" strike="noStrike">
                <a:solidFill>
                  <a:srgbClr val="ffc000"/>
                </a:solidFill>
                <a:latin typeface="Comic Sans MS"/>
              </a:rPr>
              <a:t>: www.acumdecid.e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395280" y="646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187280" y="6119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Comic Sans MS"/>
              </a:rPr>
              <a:t>Mulțumim pentru atenție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D:\ZIUA STAFETEI 2013\logo-uri\Acum decid eu - revised logo .png"/>
          <p:cNvPicPr/>
          <p:nvPr/>
        </p:nvPicPr>
        <p:blipFill>
          <a:blip r:embed="rId1"/>
          <a:stretch/>
        </p:blipFill>
        <p:spPr>
          <a:xfrm>
            <a:off x="6502320" y="301680"/>
            <a:ext cx="2617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7:31Z</dcterms:created>
  <dc:creator>Plain User</dc:creator>
  <dc:description/>
  <dc:language>en-US</dc:language>
  <cp:lastModifiedBy>Elena</cp:lastModifiedBy>
  <cp:lastPrinted>2015-07-13T11:51:14Z</cp:lastPrinted>
  <dcterms:modified xsi:type="dcterms:W3CDTF">2015-09-14T09:57:20Z</dcterms:modified>
  <cp:revision>254</cp:revision>
  <dc:subject/>
  <dc:title>Prezentáció címe</dc:title>
</cp:coreProperties>
</file>