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5FC-78FD-4271-81D5-FC086F08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3DF-76B7-4D64-BEAF-8E662A24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42C-1D2D-4926-8FC9-434EC74F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D8C-51B2-4105-80AF-931E54F3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92C5-779B-48F0-9DA8-AC1EFA3D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EC4E-BABB-43C2-8AB4-40D6A9A1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8C56-A543-45A5-90C5-26ADDE9F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D6BF-3CB7-499E-BDE3-09853ADB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1A75-D8D6-4E10-8D7D-07327ED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1150-CD20-4194-A0A5-A44B328F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4D60-7B05-4664-A980-37197E3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235-38B2-45BC-B58F-2EEA05A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1EAF-CCCA-4CAF-B277-EB2C660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377A-BAA0-4272-BC3A-2BA73EF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B658-6423-4CF9-BCE7-1F477C37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E783-646A-4CBB-96FD-D382EE35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5921-127F-49E5-A112-10C7A336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A21F5-754B-4B2C-8ACD-2F7121B2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C62E5-8980-4E24-95CF-D9DF9739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1C97E-191C-452A-8BEE-FD630D63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85BCB-A8C3-4F2B-BECE-76A4AB44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7B632-9A10-4FD2-A2B3-3D67197A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73B-BC7A-4D71-9078-7DC0B3A7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1A2B2-7B54-405A-A465-FD0132CC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B705D-6FD2-4011-962A-68E1818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EC479-031B-4833-BC1E-8EE164D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49677-35FF-459E-B592-AC00ED9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4704B-305C-4D52-9318-43063C9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FD1F8-282A-4A8D-A08D-FFE9078A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9ADB2-6344-4787-BE00-BFF2DC80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2ABB-A39F-48C5-ACF2-DAF4F9C4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F6E7-16CB-4095-B9A0-94BB177B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27E7-889D-4971-9D84-62230AF4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1EA-7FAD-41B0-8F91-48FED71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2B41-2A45-4551-876C-C874BA3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F8923-2876-46EB-B2C1-2AD66184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6387-50ED-442C-A7E0-F7FF7E0B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64A2-2953-496E-94C7-2992CF9F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7DE8-CC5C-4DB0-9CB9-312E110D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00B8-13CB-4376-9AD7-4425B49E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D1A3-73AA-4524-A329-0017F8DC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530B-C5A2-4F28-A080-2DC878AE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7B1B1-1F84-437A-BB43-2C8007B0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7D7D-F389-45B0-8D85-F30F5EFF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B02-CE31-49D2-9A7D-E61052DE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5ACEF-D7A7-478D-B405-C1DD4FF2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507E-205E-4329-9306-2840B9CA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C017A-6B5E-4659-ADE1-8E758939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84CFC-B600-4F7F-B257-B592A3F8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EE804-0EDE-4DB6-9DD3-DA526D8C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A0EFB-CAFB-4804-B450-1BBF4D1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0A0E-140B-4A8C-A766-EA70915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0CF0E-9510-47ED-8BD4-859F6D7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7C6B-838E-46BE-8EE4-6AA172A0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72B3-6CB6-4785-9FDC-FA4BA749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1CC-F5DC-47E1-B877-861DDCD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061D-28A5-4E41-BB18-BFE19862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339-43A0-4234-BD72-496F55E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2E9-9DF5-4763-B78F-4174D5D0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2EB-C125-490F-9A4F-20719DC0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DF1F-0542-4252-9861-E4E81310BA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5A1E-3B1B-479B-812F-9D1E8E433C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D0F5-C21F-428A-99A7-749AE3E59F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928D-4B12-448F-BDF3-3F8140E531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18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3A50-D637-4D4B-BA01-B43B180265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FESORULU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TODI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ELEV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EF11-C85C-4DA5-89C1-00ACD66D5E7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prezint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e5e5ff"/>
                </a:solidFill>
                <a:uFillTx/>
                <a:latin typeface="Garamond"/>
              </a:rPr>
              <a:t>PORTOFOLIUL ELEVULU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ista conţinutului acestuia, (sumarul, care include titlul fiecărei lucrări/fişe,etc. şi numărul paginii la care se găseşte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ucrările pe care le face elevul individual sau în gru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m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eseu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ticole, referate, comunică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fişe individuale de studiu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iecte şi experimen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mele zilnic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Portofoliul cuprind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bleme rezolv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apoarte scrise – de realizare a proiect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ste şi lucrări semestrial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hestionare de atitudin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bservaţii pe baza unor ghiduri de observa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flecţiile proprii ale elevului asupra a ceea ce lucreaz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utoevaluări scrise de elev sau de membrii grupulu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nterviuri de evalua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viitoare obiectiv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piniile elevilor privind activităţile desfăşu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0B89-2DF6-45C5-A9B9-F58C03D627E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egaţia de numire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urriculum Vitae(Europass)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de evidenţă a inspecţiilor efectua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inspecţiilor de specialitate şi temati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opie a rapoartelor de inspecţi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Modele de documente de planificare şi proiecte didactice la nivelul învăţământului primar, gimnazial şi liceal, după c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egi, ordine, note ale M.E.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.S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., Guvernului privind  învăţământul preuniversi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ul formularelor tip folosite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cadrul inspecţii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A86B-C647-43F1-936F-F814DADCED23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I DE CATEDR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de activităţi metodico-ştiinţifice ale catedrei pentru anul școlar 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şcolare valabile în anul şcolar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pentru examenele naţionale (bacalaureat) şi concursurile şcol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ificări le calendaristice ale membrilor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rile -cadru pentru anul şcolar cur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abel  nominal cu membrii catedrei şi datele lor personale (telefon, adresa de e-mail, şcoala de provenienţă, grad didactic, specialitatea, vechimea în învăţământ etc.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şi tematica activităţi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– verbale ale şedinţe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atedr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I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 DE CER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şcolilor arondate cerculu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şefului cercului metod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ematica şedinţelor de cerc, data şi locul de desfăşura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-verbale încheiate la activităţile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PROFESOR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79D1-B2C9-4D9E-8C16-327EB4E3399F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Substituent număr diapozitiv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14EC-4A29-440D-A206-16614EAFF7CD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perfecțion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DE1C-A47E-4353-AECB-D68351FC27D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6-09-18T12:33:24Z</dcterms:modified>
  <cp:revision>612</cp:revision>
  <dc:subject/>
  <dc:title>Comisia Nationala de Informatica</dc:title>
</cp:coreProperties>
</file>