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0B0-DBDD-4416-B0E6-DDAB47FD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892-B8DA-4FCE-86E1-9AAFFEE8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64E-6B99-4C43-8780-3A78FCB5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2E6-7695-4E0A-8057-6639DC91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3E12-676C-4191-920C-D1E5B619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F357-63C5-4522-B385-E4CBA8BA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CF74-B399-44EF-AC34-0BCB8217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FE45-EEAE-4B91-8ABD-86C736C1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56A7-8264-4500-8983-8FDC4813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68C-B816-4D6F-B095-A37D6BFA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FFFD-2990-42FA-B1CF-77DD6E74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D1A-8461-4EF8-9C42-F4A5D551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8B8A-7627-4BA0-924D-3FB82AA5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CABA-1197-4AF8-9A35-ACE24D31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7F27-1B73-4266-A482-4D2AB528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1F00-813C-4246-9876-A668A8E4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2FC5-55CB-4DB4-BF4A-CC4C9699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A0BDB-F092-477C-A063-7301F2AB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4CE53-D532-407F-AAD2-2E56625E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1172A-1938-41ED-B2E3-1D9FBEE3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5B356-94DE-4D9B-AF5D-655F63C2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AADBE-836D-44F3-AFD4-D163BF87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99D-8C2C-40E7-9D8C-B8C0B21A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95F53-47B0-41A5-BC72-CE2F2B57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4DD9B-A035-4B7C-B919-15E05E3F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15043-3145-4B4B-B1EC-A06EDB2F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E0C3A-9A0E-406F-836E-B15871AE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37BE8-7CA3-4C1C-AF03-C2EED287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6EFA0-3007-4E6A-B959-578DCB6E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74625-5F60-4777-A402-DF45FC1B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C5867-3FE0-43E5-81DE-890E2A3A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A8A19-D1C9-47ED-A7C2-77F0B4BA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B6BCB-0EA2-483D-B3DD-F9C6BEAF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8A2-085F-43F8-99FB-404371B3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0496A-4137-4486-A61B-6E65B2D9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557BE-8CDD-4470-B360-4A149A69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BC7F-7F26-46CD-A088-4167A332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487DC-2C74-41BA-A621-798021AF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4F01-3081-4E12-8511-D866B083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4CC21-2B70-4A05-AB8B-F183B26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C48A-1D29-4EA8-B6D3-02D4864D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069A5-3185-4742-A371-0213C6B9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27E50-7EA1-4A75-B3E9-48DF99D4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9CDF1-ED0C-46E8-9624-F7CBC9F0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271-1DA3-406B-BB3D-06054767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2A322-3B99-4323-AD58-631FF371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4B5BB-58DF-4AA5-A8DE-91DFD1E6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38D17-1F8A-466F-9CFB-7307C465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3B898-046E-4A5A-8744-1D7B0C53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FC832-2FB3-4D9B-AA53-DB81B18A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B7D5-9157-4695-B9C1-DEAE83AC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7F9F9-44DF-4181-9AF8-594D8E92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9080C-87C7-421A-8237-19DD5288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A2D35-D40E-4AD1-A027-6CCFACE5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44F68-11F5-4BD4-A3B0-1FD86559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CE9-7D6F-44CA-879B-9A764A4E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C29BF-C774-4EE3-BD73-E80B22A2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4F5-F520-465D-8AA9-45F4A97A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B06-C013-434E-B19E-61C3810C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01C-E9C5-414B-874F-78E0662F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4E44-BDA5-4109-9186-C5AD60D7AA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297A-AB36-4CA3-AFB2-E2BAE8F97F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E500-26DA-40A1-A4E9-56A20BB160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9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F803-10C3-428B-8E8B-5C33E0AC53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18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1995-8351-495B-BECC-7F90B22E58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FESORULUI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ETODI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ELEV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D4AD-8627-4068-ACC9-B3127697939C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prezint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un pact 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elevului de învăţare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e5e5ff"/>
                </a:solidFill>
                <a:uFillTx/>
                <a:latin typeface="Garamond"/>
              </a:rPr>
              <a:t>PORTOFOLIUL ELEVULU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ista conţinutului acestuia, (sumarul, care include titlul fiecărei lucrări/fişe,etc. şi numărul paginii la care se găseşte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ucrările pe care le face elevul individual sau în grup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m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eseu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ticole, referate, comunică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fişe individuale de studiu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iecte şi experimen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mele zilnic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Portofoliul cuprind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bleme rezolv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apoarte scrise – de realizare a proiectel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ste şi lucrări semestrial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hestionare de atitudin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înregistrări, fotografii care reflectă activitatea desfăşurată de elev individual sau împreună cu colegii să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bservaţii pe baza unor ghiduri de observa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flecţiile proprii ale elevului asupra a ceea ce lucrează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utoevaluări scrise de elev sau de membrii grupulu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interviuri de evalua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lte materiale, hărţi cognitive, contribuţii la activitate care reflectă participarea elevului/ grupului la derularea şi soluţionarea temei d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viitoare obiective pornind de la realizările curente ale elevului/grupului, pe baza intereselor şi a progreselor înregistr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suplimentare şi evaluări ale profesorului, ale altor grupuri de învăţare şi/sau ale altor părţi interesate, de exemplu părin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lucrărilor de evaluare efectuate pentru teme din domeniul profesional sau abilităţi che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activităţilor de autoevaluare şi dovezi ale discuţiilor care au avut lo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piniile elevilor privind activităţile desfăşu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lanuri de acţiune/ evaluări/ activităţi viitoare planificate şi efectuate de către ele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ale profesorului privind atitudinea şi rezultatele elevul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D57D-D5F2-48FB-83D3-54DE4297F28C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egaţia de numire 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urriculum Vitae(Europass)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de evidenţă a inspecţiilor efectuat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inspecţiilor de specialitate şi tematic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Diagnoza procesului de învăţământ de specialitate (in sectorul/zona arondat(ă), la finele fiecărui semestru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opie a rapoartelor de inspecţi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Modele de documente de planificare şi proiecte didactice la nivelul învăţământului primar, gimnazial şi liceal, după ca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Legi, ordine, note ale M.E.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.S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., Guvernului privind  învăţământul preuniversit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ul formularelor tip folosite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î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cadrul inspecţiil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0526-D40B-4060-9A92-3DFD7C084E3E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2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I DE CATEDRĂ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de activităţi metodico-ştiinţifice ale catedrei pentru anul școlar 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şcolare valabile în anul şcolar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pentru examenele naţionale (bacalaureat) şi concursurile şcol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ificări le calendaristice ale membrilor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rile -cadru pentru anul şcolar cur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abel  nominal cu membrii catedrei şi datele lor personale (telefon, adresa de e-mail, şcoala de provenienţă, grad didactic, specialitatea, vechimea în învăţământ etc.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şi tematica activităţi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– verbale ale şedinţe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atedr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I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 DE CERC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şcolilor arondate cerculu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şefului cercului metodi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ematica şedinţelor de cerc, data şi locul de desfăşura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-verbale încheiate la activităţile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PROFESOR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FF76-7F37-4752-AA27-3314B331E389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7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pentru profesorii debutanț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Substituent număr diapozitiv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9F08-27FE-46A8-AE31-6F6950775C12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perfecțion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5226-EFA8-4C59-939D-C054D63DFB2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Micky</cp:lastModifiedBy>
  <dcterms:modified xsi:type="dcterms:W3CDTF">2016-09-18T12:33:24Z</dcterms:modified>
  <cp:revision>612</cp:revision>
  <dc:subject/>
  <dc:title>Comisia Nationala de Informatica</dc:title>
</cp:coreProperties>
</file>